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53E-B7B2-415D-94D0-E6D03EB6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9D2-4B9F-427D-8CA0-88C15F10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D28-0800-485A-B653-84F5964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DD2-8C3A-4326-9DBA-CC2380E0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B65-B05F-41D8-A8B7-EF5BEA8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50F-985F-4F57-BDD6-9F5596D3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63F-81C4-4BE8-8842-075BF25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355-997B-426B-98C3-BF6D754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8A1-FB96-459A-9813-9D90A23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779-6EDB-4767-A69A-09DFC7A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F05-FDBE-4FF8-AE54-90083FC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C6C-7876-4EE9-8F36-88A36E1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080-35C3-463C-B342-57886144D24A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CB5-4505-4A05-874E-D21DBF9AD0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3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velopment of Lyman Alpha Imaging Camera (LAIC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imaging device for PROCYON, ultrasmall deep spac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5516280"/>
            <a:ext cx="820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hingo Kameda et al from Rikkyou U, Tokyo U, and ISAS/J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70600">
            <a:off x="4500360" y="1989000"/>
            <a:ext cx="3832200" cy="19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96000" y="3786120"/>
            <a:ext cx="1920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66560" y="1873080"/>
            <a:ext cx="3662640" cy="1912680"/>
            <a:chOff x="466560" y="1873080"/>
            <a:chExt cx="3662640" cy="191268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466560" y="1873080"/>
              <a:ext cx="366084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211560" y="3415680"/>
              <a:ext cx="91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73200" y="522936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laika.paina.jp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79640" y="3998880"/>
            <a:ext cx="1628640" cy="108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00080" y="515772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kuma1117.cocolog-nifty.com/blog/images/2011/01/13/00001297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083280" y="4076640"/>
            <a:ext cx="2952720" cy="2915280"/>
            <a:chOff x="6083280" y="4076640"/>
            <a:chExt cx="2952720" cy="29152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083280" y="4076640"/>
              <a:ext cx="2952720" cy="24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211800" y="6532920"/>
              <a:ext cx="272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CP+RAE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模式図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Yoshioka et al.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0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11280" y="34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ICA</a:t>
            </a:r>
            <a:r>
              <a:rPr b="0" lang="zh-CN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Geocoronal Hydro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788000" y="1700280"/>
            <a:ext cx="4248000" cy="2355120"/>
            <a:chOff x="4788000" y="1700280"/>
            <a:chExt cx="4248000" cy="2355120"/>
          </a:xfrm>
        </p:grpSpPr>
        <p:grpSp>
          <p:nvGrpSpPr>
            <p:cNvPr id="168" name=""/>
            <p:cNvGrpSpPr/>
            <p:nvPr/>
          </p:nvGrpSpPr>
          <p:grpSpPr>
            <a:xfrm>
              <a:off x="4788000" y="1700280"/>
              <a:ext cx="4248000" cy="2355120"/>
              <a:chOff x="4788000" y="1700280"/>
              <a:chExt cx="4248000" cy="23551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88000" y="1700280"/>
                <a:ext cx="4248000" cy="2355120"/>
                <a:chOff x="4788000" y="1700280"/>
                <a:chExt cx="4248000" cy="235512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88000" y="1700280"/>
                  <a:ext cx="4248000" cy="235512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1" name=""/>
                <p:cNvCxnSpPr/>
                <p:nvPr/>
              </p:nvCxnSpPr>
              <p:spPr>
                <a:xfrm flipV="1">
                  <a:off x="5076360" y="2327400"/>
                  <a:ext cx="1477080" cy="12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  <p:sp>
            <p:nvSpPr>
              <p:cNvPr id="172" name=""/>
              <p:cNvSpPr/>
              <p:nvPr/>
            </p:nvSpPr>
            <p:spPr>
              <a:xfrm>
                <a:off x="5364000" y="2178720"/>
                <a:ext cx="72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120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962840" y="374940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ICA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形状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5440" y="5084640"/>
            <a:ext cx="532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ptical system: casegrain tele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oth main and sub mirros are spherical (Al+Mg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719280" y="61657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 hood protection, so certain measures are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-825480" y="422100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: same as that on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picolombo/MPO's PHEBUS/FU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305240" y="1844640"/>
            <a:ext cx="3814920" cy="2373120"/>
            <a:chOff x="4305240" y="1844640"/>
            <a:chExt cx="3814920" cy="237312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4724280" y="1844640"/>
              <a:ext cx="3394080" cy="2117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9" name=""/>
            <p:cNvCxnSpPr/>
            <p:nvPr/>
          </p:nvCxnSpPr>
          <p:spPr>
            <a:xfrm flipV="1">
              <a:off x="4854240" y="2152800"/>
              <a:ext cx="1569240" cy="3240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4789440" y="2212920"/>
              <a:ext cx="131040" cy="13582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81" name=""/>
            <p:cNvSpPr/>
            <p:nvPr/>
          </p:nvSpPr>
          <p:spPr>
            <a:xfrm>
              <a:off x="6967440" y="394128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AICA (PM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5240" y="2769840"/>
              <a:ext cx="61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80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3960" y="21830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118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01400" y="1341360"/>
            <a:ext cx="348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lenngth: 400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 of view: 3 de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gular resolution: 0.024 d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ran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22+/-10n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sitivity: 3.4x10-3(cts/s/pix/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irror effective radius: 71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rror effective radius: 32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: 2.14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consumption: max 5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mmx160mmx130m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6920" y="404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herical Cassegrain mirr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4842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: approx. 160 µm per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114560" y="1946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ot diamter 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160µm within FOV 3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29160" y="2492280"/>
            <a:ext cx="4614840" cy="4387680"/>
            <a:chOff x="4529160" y="2492280"/>
            <a:chExt cx="4614840" cy="4387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29160" y="2492280"/>
              <a:ext cx="4614840" cy="41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443640" y="6603480"/>
              <a:ext cx="266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spot diagram of optical syste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9640" y="3860640"/>
            <a:ext cx="3673080" cy="2803680"/>
            <a:chOff x="539640" y="3860640"/>
            <a:chExt cx="3673080" cy="2803680"/>
          </a:xfrm>
        </p:grpSpPr>
        <p:grpSp>
          <p:nvGrpSpPr>
            <p:cNvPr id="192" name=""/>
            <p:cNvGrpSpPr/>
            <p:nvPr/>
          </p:nvGrpSpPr>
          <p:grpSpPr>
            <a:xfrm>
              <a:off x="539640" y="3860640"/>
              <a:ext cx="3673080" cy="2803680"/>
              <a:chOff x="539640" y="3860640"/>
              <a:chExt cx="3673080" cy="2803680"/>
            </a:xfrm>
          </p:grpSpPr>
          <p:pic>
            <p:nvPicPr>
              <p:cNvPr id="1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3860640"/>
                <a:ext cx="3530160" cy="23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988360" y="6205320"/>
                <a:ext cx="1224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light path outlin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22160" y="5510160"/>
              <a:ext cx="482760" cy="665280"/>
              <a:chOff x="722160" y="5510160"/>
              <a:chExt cx="482760" cy="665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90200" y="5702400"/>
                <a:ext cx="360720" cy="365040"/>
                <a:chOff x="790200" y="5702400"/>
                <a:chExt cx="360720" cy="365040"/>
              </a:xfrm>
            </p:grpSpPr>
            <p:cxnSp>
              <p:nvCxnSpPr>
                <p:cNvPr id="197" name=""/>
                <p:cNvCxnSpPr/>
                <p:nvPr/>
              </p:nvCxnSpPr>
              <p:spPr>
                <a:xfrm flipV="1">
                  <a:off x="790200" y="5702400"/>
                  <a:ext cx="1080" cy="365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98" name=""/>
                <p:cNvCxnSpPr/>
                <p:nvPr/>
              </p:nvCxnSpPr>
              <p:spPr>
                <a:xfrm>
                  <a:off x="790200" y="6066720"/>
                  <a:ext cx="361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199" name=""/>
              <p:cNvSpPr/>
              <p:nvPr/>
            </p:nvSpPr>
            <p:spPr>
              <a:xfrm>
                <a:off x="722160" y="5510160"/>
                <a:ext cx="7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3640" y="5929200"/>
                <a:ext cx="71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68240" y="6027840"/>
              <a:ext cx="46080" cy="46080"/>
            </a:xfrm>
            <a:prstGeom prst="flowChartSummingJunction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50920" y="244476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tachment pr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X,Ydirection: 1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Zdirection: 0.06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59200" y="3003480"/>
            <a:ext cx="404352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819320" y="3141720"/>
            <a:ext cx="435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am entrance angle+/-1.5d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0600" y="1353960"/>
            <a:ext cx="3663720" cy="252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33360" y="3875040"/>
            <a:ext cx="3630600" cy="249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819680" y="304920"/>
            <a:ext cx="3924360" cy="2698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48000" y="5965920"/>
            <a:ext cx="5859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↑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 direct light path from entrance to detecto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train light is less than 1/100 of hydrogen glow in interstellar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613080" y="52560"/>
            <a:ext cx="1025532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train light protection (lack of spac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492360" y="4869000"/>
            <a:ext cx="5545440" cy="157788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190440"/>
            <a:ext cx="86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ptical system adhesion (Rikkyo U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82560" y="1123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/Secondary mirror &amp; bandpass filter were attached using a space-qualified adhesive and glass beads (φ100 µ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889600"/>
            <a:ext cx="189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imary mirr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433680" y="488160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bration, shock, and thermal te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00160" y="5973840"/>
            <a:ext cx="35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 ran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0℃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3864240" y="5305320"/>
            <a:ext cx="269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bration leve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 [Grm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3887640" y="564048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ck leve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 [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08000" y="2038320"/>
            <a:ext cx="6768720" cy="2386440"/>
            <a:chOff x="1908000" y="2038320"/>
            <a:chExt cx="6768720" cy="2386440"/>
          </a:xfrm>
        </p:grpSpPr>
        <p:grpSp>
          <p:nvGrpSpPr>
            <p:cNvPr id="219" name=""/>
            <p:cNvGrpSpPr/>
            <p:nvPr/>
          </p:nvGrpSpPr>
          <p:grpSpPr>
            <a:xfrm>
              <a:off x="1908000" y="2038320"/>
              <a:ext cx="6768720" cy="2386440"/>
              <a:chOff x="1908000" y="2038320"/>
              <a:chExt cx="6768720" cy="238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1908000" y="2038320"/>
                <a:ext cx="3029760" cy="1118880"/>
              </a:xfrm>
              <a:prstGeom prst="wedgeRoundRectCallout">
                <a:avLst>
                  <a:gd name="adj1" fmla="val 34486"/>
                  <a:gd name="adj2" fmla="val 87356"/>
                  <a:gd name="adj3" fmla="val 16667"/>
                </a:avLst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dhesive and glass bead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ickness cont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repeatabil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164480" y="3206160"/>
                <a:ext cx="4512240" cy="1218600"/>
                <a:chOff x="4164480" y="3206160"/>
                <a:chExt cx="4512240" cy="12186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4164480" y="3206160"/>
                  <a:ext cx="4510440" cy="647640"/>
                  <a:chOff x="4164480" y="3206160"/>
                  <a:chExt cx="4510440" cy="6476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518360" y="3506760"/>
                    <a:ext cx="3849840" cy="27504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255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689720" y="3206160"/>
                    <a:ext cx="3503880" cy="399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77864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3936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5080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7952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514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621480" y="3606120"/>
                    <a:ext cx="8712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300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36452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73316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105040" y="3606120"/>
                    <a:ext cx="87480" cy="10044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164480" y="3703680"/>
                    <a:ext cx="4510440" cy="150120"/>
                  </a:xfrm>
                  <a:prstGeom prst="rect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236" name=""/>
                <p:cNvCxnSpPr/>
                <p:nvPr/>
              </p:nvCxnSpPr>
              <p:spPr>
                <a:xfrm flipH="1" flipV="1">
                  <a:off x="6547320" y="3910320"/>
                  <a:ext cx="305280" cy="291240"/>
                </a:xfrm>
                <a:prstGeom prst="straightConnector1">
                  <a:avLst/>
                </a:prstGeom>
                <a:ln w="9360">
                  <a:solidFill>
                    <a:srgbClr val="4a7ebc"/>
                  </a:solidFill>
                  <a:miter/>
                  <a:tailEnd len="med" type="arrow" w="med"/>
                </a:ln>
              </p:spPr>
            </p:cxnSp>
            <p:sp>
              <p:nvSpPr>
                <p:cNvPr id="237" name=""/>
                <p:cNvSpPr/>
                <p:nvPr/>
              </p:nvSpPr>
              <p:spPr>
                <a:xfrm>
                  <a:off x="6852240" y="4056480"/>
                  <a:ext cx="182448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luminum pl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5778360" y="2276640"/>
              <a:ext cx="28800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imary/Secondary mirror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 Bandpass filt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9" name=""/>
            <p:cNvCxnSpPr>
              <a:stCxn id="238" idx="2"/>
            </p:cNvCxnSpPr>
            <p:nvPr/>
          </p:nvCxnSpPr>
          <p:spPr>
            <a:xfrm flipH="1">
              <a:off x="6852960" y="2922480"/>
              <a:ext cx="365760" cy="237240"/>
            </a:xfrm>
            <a:prstGeom prst="straightConnector1">
              <a:avLst/>
            </a:prstGeom>
            <a:ln w="9360">
              <a:solidFill>
                <a:srgbClr val="4a7ebc"/>
              </a:solidFill>
              <a:miter/>
              <a:tailEnd len="med" type="arrow" w="med"/>
            </a:ln>
          </p:spPr>
        </p:cxn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85880" y="3841920"/>
            <a:ext cx="2244600" cy="2004840"/>
          </a:xfrm>
          <a:prstGeom prst="rect">
            <a:avLst/>
          </a:prstGeom>
          <a:ln w="0">
            <a:noFill/>
          </a:ln>
        </p:spPr>
      </p:pic>
      <p:cxnSp>
        <p:nvCxnSpPr>
          <p:cNvPr id="241" name=""/>
          <p:cNvCxnSpPr/>
          <p:nvPr/>
        </p:nvCxnSpPr>
        <p:spPr>
          <a:xfrm flipH="1">
            <a:off x="2315880" y="3777840"/>
            <a:ext cx="1753200" cy="87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256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hesion of PM mirr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27280" y="1628640"/>
            <a:ext cx="6408720" cy="5113440"/>
            <a:chOff x="2627280" y="1628640"/>
            <a:chExt cx="6408720" cy="51134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2917800" y="1844640"/>
              <a:ext cx="3019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6227640" y="1765440"/>
              <a:ext cx="22449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86200" y="3768840"/>
              <a:ext cx="23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eparation of the adhe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20080" y="375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imary mirror(PM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27280" y="1628640"/>
              <a:ext cx="6337440" cy="2573640"/>
            </a:xfrm>
            <a:prstGeom prst="roundRect">
              <a:avLst>
                <a:gd name="adj" fmla="val 16657"/>
              </a:avLst>
            </a:prstGeom>
            <a:noFill/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98920" y="4365720"/>
              <a:ext cx="6337080" cy="2376360"/>
              <a:chOff x="2698920" y="4365720"/>
              <a:chExt cx="6337080" cy="2376360"/>
            </a:xfrm>
          </p:grpSpPr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1840" y="4492800"/>
                <a:ext cx="2652480" cy="19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21040" y="4726080"/>
                <a:ext cx="3058920" cy="15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3851280" y="6362640"/>
                <a:ext cx="230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Preparation of the adhes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31880" y="6362640"/>
                <a:ext cx="177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econdary mirror(PM)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98920" y="4365720"/>
                <a:ext cx="6337080" cy="2376360"/>
              </a:xfrm>
              <a:prstGeom prst="roundRect">
                <a:avLst>
                  <a:gd name="adj" fmla="val 16699"/>
                </a:avLst>
              </a:prstGeom>
              <a:noFill/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08000" y="10954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①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mi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4133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②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mi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"/>
          <p:cNvCxnSpPr/>
          <p:nvPr/>
        </p:nvCxnSpPr>
        <p:spPr>
          <a:xfrm>
            <a:off x="2195640" y="2800080"/>
            <a:ext cx="1297440" cy="48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8" name=""/>
          <p:cNvSpPr/>
          <p:nvPr/>
        </p:nvSpPr>
        <p:spPr>
          <a:xfrm>
            <a:off x="540000" y="2362320"/>
            <a:ext cx="16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tur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ce-adhe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amp; glass be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79280" y="2637000"/>
            <a:ext cx="4117680" cy="3821040"/>
            <a:chOff x="179280" y="2637000"/>
            <a:chExt cx="4117680" cy="3821040"/>
          </a:xfrm>
        </p:grpSpPr>
        <p:grpSp>
          <p:nvGrpSpPr>
            <p:cNvPr id="260" name=""/>
            <p:cNvGrpSpPr/>
            <p:nvPr/>
          </p:nvGrpSpPr>
          <p:grpSpPr>
            <a:xfrm>
              <a:off x="179280" y="2637000"/>
              <a:ext cx="4117680" cy="3821040"/>
              <a:chOff x="179280" y="2637000"/>
              <a:chExt cx="4117680" cy="38210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179280" y="2637000"/>
                <a:ext cx="4117680" cy="3821040"/>
                <a:chOff x="179280" y="2637000"/>
                <a:chExt cx="4117680" cy="38210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190080" y="2637000"/>
                  <a:ext cx="4106880" cy="3821040"/>
                  <a:chOff x="190080" y="2637000"/>
                  <a:chExt cx="4106880" cy="38210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190080" y="2637000"/>
                    <a:ext cx="4106880" cy="382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273960" y="3938760"/>
                    <a:ext cx="3934440" cy="2465280"/>
                    <a:chOff x="273960" y="3938760"/>
                    <a:chExt cx="3934440" cy="2465280"/>
                  </a:xfrm>
                </p:grpSpPr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613520" y="5065560"/>
                      <a:ext cx="1369440" cy="13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73960" y="3938760"/>
                      <a:ext cx="3934440" cy="1282680"/>
                      <a:chOff x="273960" y="3938760"/>
                      <a:chExt cx="3934440" cy="1282680"/>
                    </a:xfrm>
                  </p:grpSpPr>
                  <p:grpSp>
                    <p:nvGrpSpPr>
                      <p:cNvPr id="267" name=""/>
                      <p:cNvGrpSpPr/>
                      <p:nvPr/>
                    </p:nvGrpSpPr>
                    <p:grpSpPr>
                      <a:xfrm>
                        <a:off x="273960" y="3938760"/>
                        <a:ext cx="3934440" cy="1282680"/>
                        <a:chOff x="273960" y="3938760"/>
                        <a:chExt cx="3934440" cy="1282680"/>
                      </a:xfrm>
                    </p:grpSpPr>
                    <p:pic>
                      <p:nvPicPr>
                        <p:cNvPr id="26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5520" y="3938760"/>
                          <a:ext cx="1352880" cy="1246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269" name="" descr=""/>
                        <p:cNvPicPr/>
                        <p:nvPr/>
                      </p:nvPicPr>
                      <p:blipFill>
                        <a:blip r:embed="rId3"/>
                        <a:srcRect l="0" t="1522" r="0" b="2131"/>
                        <a:stretch/>
                      </p:blipFill>
                      <p:spPr>
                        <a:xfrm>
                          <a:off x="273960" y="3938760"/>
                          <a:ext cx="1429200" cy="1282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27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81840" y="3938760"/>
                          <a:ext cx="1378440" cy="1246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cxnSp>
                    <p:nvCxnSpPr>
                      <p:cNvPr id="271" name=""/>
                      <p:cNvCxnSpPr/>
                      <p:nvPr/>
                    </p:nvCxnSpPr>
                    <p:spPr>
                      <a:xfrm>
                        <a:off x="1747080" y="5055840"/>
                        <a:ext cx="104076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</p:cxnSp>
                  <p:cxnSp>
                    <p:nvCxnSpPr>
                      <p:cNvPr id="272" name=""/>
                      <p:cNvCxnSpPr/>
                      <p:nvPr/>
                    </p:nvCxnSpPr>
                    <p:spPr>
                      <a:xfrm>
                        <a:off x="1764720" y="4071240"/>
                        <a:ext cx="1080" cy="100260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</p:cxn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990440" y="4808880"/>
                        <a:ext cx="793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ff00"/>
                            </a:solidFill>
                            <a:latin typeface="Calibri"/>
                          </a:rPr>
                          <a:t>156µm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6200000">
                        <a:off x="1289160" y="4280040"/>
                        <a:ext cx="7959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ffff00"/>
                            </a:solidFill>
                            <a:latin typeface="Calibri"/>
                          </a:rPr>
                          <a:t>156µm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141696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①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7928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③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53320" y="512748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⑤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16960" y="263700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④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86040" y="3860640"/>
                  <a:ext cx="37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②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80" name="" descr=""/>
              <p:cNvPicPr/>
              <p:nvPr/>
            </p:nvPicPr>
            <p:blipFill>
              <a:blip r:embed="rId5"/>
              <a:srcRect l="8525" t="5278" r="6469" b="6081"/>
              <a:stretch/>
            </p:blipFill>
            <p:spPr>
              <a:xfrm>
                <a:off x="1739880" y="2879640"/>
                <a:ext cx="1132560" cy="113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"/>
            <p:cNvGrpSpPr/>
            <p:nvPr/>
          </p:nvGrpSpPr>
          <p:grpSpPr>
            <a:xfrm>
              <a:off x="1799640" y="2954160"/>
              <a:ext cx="986400" cy="974880"/>
              <a:chOff x="1799640" y="2954160"/>
              <a:chExt cx="986400" cy="974880"/>
            </a:xfrm>
          </p:grpSpPr>
          <p:sp>
            <p:nvSpPr>
              <p:cNvPr id="282" name=""/>
              <p:cNvSpPr/>
              <p:nvPr/>
            </p:nvSpPr>
            <p:spPr>
              <a:xfrm>
                <a:off x="1799640" y="2954160"/>
                <a:ext cx="986400" cy="1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776680" y="2954160"/>
                <a:ext cx="0" cy="974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799640" y="3922560"/>
                <a:ext cx="9784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99640" y="2963880"/>
                <a:ext cx="0" cy="965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774080" y="4073400"/>
              <a:ext cx="1007280" cy="974880"/>
              <a:chOff x="1774080" y="4073400"/>
              <a:chExt cx="1007280" cy="974880"/>
            </a:xfrm>
          </p:grpSpPr>
          <p:sp>
            <p:nvSpPr>
              <p:cNvPr id="287" name=""/>
              <p:cNvSpPr/>
              <p:nvPr/>
            </p:nvSpPr>
            <p:spPr>
              <a:xfrm>
                <a:off x="1774080" y="4073400"/>
                <a:ext cx="1004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781360" y="4073400"/>
                <a:ext cx="0" cy="974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30480" y="4087800"/>
              <a:ext cx="975960" cy="976320"/>
              <a:chOff x="3030480" y="4087800"/>
              <a:chExt cx="975960" cy="976320"/>
            </a:xfrm>
          </p:grpSpPr>
          <p:sp>
            <p:nvSpPr>
              <p:cNvPr id="290" name=""/>
              <p:cNvSpPr/>
              <p:nvPr/>
            </p:nvSpPr>
            <p:spPr>
              <a:xfrm>
                <a:off x="3043080" y="4095720"/>
                <a:ext cx="961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006440" y="4095720"/>
                <a:ext cx="0" cy="951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030480" y="5046840"/>
                <a:ext cx="973800" cy="4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30840" y="408780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12240" y="5219640"/>
              <a:ext cx="970560" cy="976320"/>
              <a:chOff x="1812240" y="5219640"/>
              <a:chExt cx="970560" cy="976320"/>
            </a:xfrm>
          </p:grpSpPr>
          <p:sp>
            <p:nvSpPr>
              <p:cNvPr id="295" name=""/>
              <p:cNvSpPr/>
              <p:nvPr/>
            </p:nvSpPr>
            <p:spPr>
              <a:xfrm>
                <a:off x="1812240" y="5235480"/>
                <a:ext cx="9687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78120" y="5235120"/>
                <a:ext cx="4680" cy="955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1815120" y="6191280"/>
                <a:ext cx="9673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12240" y="521964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79160" y="4076280"/>
              <a:ext cx="999000" cy="984600"/>
              <a:chOff x="479160" y="4076280"/>
              <a:chExt cx="999000" cy="98460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491400" y="4083120"/>
                <a:ext cx="986760" cy="7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470600" y="4076280"/>
                <a:ext cx="0" cy="970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479160" y="5051520"/>
                <a:ext cx="991440" cy="9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160" y="4083120"/>
                <a:ext cx="0" cy="9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682560" y="260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cus adjust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30920" y="4221000"/>
            <a:ext cx="3376440" cy="2202840"/>
            <a:chOff x="4930920" y="4221000"/>
            <a:chExt cx="3376440" cy="2202840"/>
          </a:xfrm>
        </p:grpSpPr>
        <p:sp>
          <p:nvSpPr>
            <p:cNvPr id="306" name=""/>
            <p:cNvSpPr/>
            <p:nvPr/>
          </p:nvSpPr>
          <p:spPr>
            <a:xfrm>
              <a:off x="4930920" y="4221000"/>
              <a:ext cx="322092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pot size (FWH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①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enter : 48.9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ight    : 66.3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③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eft      : 69.6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④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op       : 97.4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⑤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ottom: 68.3µ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86440" y="6055560"/>
              <a:ext cx="32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Requirement: 156µm 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03640" y="1116000"/>
            <a:ext cx="5853600" cy="3032640"/>
            <a:chOff x="3203640" y="1116000"/>
            <a:chExt cx="5853600" cy="3032640"/>
          </a:xfrm>
        </p:grpSpPr>
        <p:grpSp>
          <p:nvGrpSpPr>
            <p:cNvPr id="309" name=""/>
            <p:cNvGrpSpPr/>
            <p:nvPr/>
          </p:nvGrpSpPr>
          <p:grpSpPr>
            <a:xfrm>
              <a:off x="3203640" y="1116000"/>
              <a:ext cx="5853600" cy="3032640"/>
              <a:chOff x="3203640" y="1116000"/>
              <a:chExt cx="5853600" cy="30326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3244320" y="1116000"/>
                <a:ext cx="5812920" cy="3032640"/>
                <a:chOff x="3244320" y="1116000"/>
                <a:chExt cx="5812920" cy="303264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3244320" y="1116000"/>
                  <a:ext cx="5812920" cy="3032640"/>
                  <a:chOff x="3244320" y="1116000"/>
                  <a:chExt cx="5812920" cy="30326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7571520" y="3841560"/>
                    <a:ext cx="1460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alibri"/>
                      </a:rPr>
                      <a:t>Focus adjustmen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244320" y="1116000"/>
                    <a:ext cx="5812920" cy="2728440"/>
                    <a:chOff x="3244320" y="1116000"/>
                    <a:chExt cx="5812920" cy="2728440"/>
                  </a:xfrm>
                </p:grpSpPr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44320" y="1116000"/>
                      <a:ext cx="5626800" cy="272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5745960" y="2819160"/>
                      <a:ext cx="1323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ele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316" name=""/>
                    <p:cNvCxnSpPr>
                      <a:stCxn id="315" idx="1"/>
                    </p:cNvCxnSpPr>
                    <p:nvPr/>
                  </p:nvCxnSpPr>
                  <p:spPr>
                    <a:xfrm flipH="1" flipV="1">
                      <a:off x="5672160" y="2606760"/>
                      <a:ext cx="73800" cy="394920"/>
                    </a:xfrm>
                    <a:prstGeom prst="straightConnector1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17" name=""/>
                    <p:cNvCxnSpPr/>
                    <p:nvPr/>
                  </p:nvCxnSpPr>
                  <p:spPr>
                    <a:xfrm flipV="1">
                      <a:off x="8541360" y="1826280"/>
                      <a:ext cx="1080" cy="356400"/>
                    </a:xfrm>
                    <a:prstGeom prst="straightConnector1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733520" y="2103120"/>
                      <a:ext cx="132372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Lamp(visible ligh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052880" y="1542240"/>
                      <a:ext cx="893880" cy="78192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255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052880" y="2324160"/>
                      <a:ext cx="12474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LA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lens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502960" y="1494000"/>
                  <a:ext cx="2076480" cy="689400"/>
                  <a:chOff x="5502960" y="1494000"/>
                  <a:chExt cx="2076480" cy="6894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360000">
                    <a:off x="5519520" y="1564560"/>
                    <a:ext cx="2043360" cy="548280"/>
                  </a:xfrm>
                  <a:prstGeom prst="pie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360000">
                    <a:off x="5645880" y="1663560"/>
                    <a:ext cx="1693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Collimated ligh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>
                <a:off x="3203640" y="2954160"/>
                <a:ext cx="196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Calibri"/>
                  </a:rPr>
                  <a:t>Camera(Sony α7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25" name=""/>
            <p:cNvCxnSpPr/>
            <p:nvPr/>
          </p:nvCxnSpPr>
          <p:spPr>
            <a:xfrm flipV="1">
              <a:off x="3684240" y="2333880"/>
              <a:ext cx="207000" cy="7473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 flipH="1">
            <a:off x="674640" y="1116000"/>
            <a:ext cx="2054160" cy="1281240"/>
          </a:xfrm>
          <a:prstGeom prst="rect">
            <a:avLst/>
          </a:prstGeom>
          <a:ln w="0">
            <a:noFill/>
          </a:ln>
        </p:spPr>
      </p:pic>
      <p:cxnSp>
        <p:nvCxnSpPr>
          <p:cNvPr id="327" name=""/>
          <p:cNvCxnSpPr/>
          <p:nvPr/>
        </p:nvCxnSpPr>
        <p:spPr>
          <a:xfrm>
            <a:off x="2774520" y="1606320"/>
            <a:ext cx="1508760" cy="22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8" name=""/>
          <p:cNvSpPr/>
          <p:nvPr/>
        </p:nvSpPr>
        <p:spPr>
          <a:xfrm>
            <a:off x="7092000" y="4676760"/>
            <a:ext cx="30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temp.(60 degre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no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2560" y="57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chedule od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08000" y="779400"/>
            <a:ext cx="7416720" cy="6558120"/>
            <a:chOff x="108000" y="779400"/>
            <a:chExt cx="7416720" cy="6558120"/>
          </a:xfrm>
        </p:grpSpPr>
        <p:sp>
          <p:nvSpPr>
            <p:cNvPr id="331" name=""/>
            <p:cNvSpPr/>
            <p:nvPr/>
          </p:nvSpPr>
          <p:spPr>
            <a:xfrm>
              <a:off x="108000" y="779400"/>
              <a:ext cx="7416720" cy="6558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小塚ゴシック Pro L"/>
                  <a:ea typeface="小塚ゴシック Pro L"/>
                </a:rPr>
                <a:t>201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Oct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Start, concept desig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Nov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sign and testing of support structu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c: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Vibration and impact testing of support structu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zh-CN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(adhesion strength, MCP impact level reductio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小塚ゴシック Pro L"/>
                  <a:ea typeface="小塚ゴシック Pro L"/>
                </a:rPr>
                <a:t>201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Jan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inal spec. confirmed, PM fabrication star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eb: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             Temp. testing of adhesion points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ar: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PM cpmpleted and focus test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ompletion of FM sensor(MCP+RAE) and support structure of read circui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pr:                        PM adhes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ay: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M tube structure completed and focus testing, QT vibration and impact testing, temp. testing (focus)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         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　      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小塚ゴシック Pro L"/>
                  <a:ea typeface="小塚ゴシック Pro L"/>
                </a:rPr>
                <a:t>	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Jun: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FM vibration test, thermal vacuum test, attaching to the pr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ec: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unch</a:t>
              </a:r>
              <a:r>
                <a:rPr b="0" lang="zh-CN" sz="24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8000" y="4951440"/>
              <a:ext cx="7416720" cy="0"/>
            </a:xfrm>
            <a:prstGeom prst="line">
              <a:avLst/>
            </a:prstGeom>
            <a:ln w="9360">
              <a:solidFill>
                <a:srgbClr val="4a7eb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946920" y="1484280"/>
            <a:ext cx="2066760" cy="1279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280280" y="4365720"/>
            <a:ext cx="1733400" cy="1081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7286760" y="2852640"/>
            <a:ext cx="1590480" cy="1420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7095960" y="279360"/>
            <a:ext cx="1968840" cy="12304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7667640" y="5445000"/>
            <a:ext cx="1390320" cy="1521360"/>
            <a:chOff x="7667640" y="5445000"/>
            <a:chExt cx="1390320" cy="1521360"/>
          </a:xfrm>
        </p:grpSpPr>
        <p:pic>
          <p:nvPicPr>
            <p:cNvPr id="338" name="" descr=""/>
            <p:cNvPicPr/>
            <p:nvPr/>
          </p:nvPicPr>
          <p:blipFill>
            <a:blip r:embed="rId5"/>
            <a:srcRect l="0" t="0" r="-1726" b="14694"/>
            <a:stretch/>
          </p:blipFill>
          <p:spPr>
            <a:xfrm>
              <a:off x="7667640" y="5445000"/>
              <a:ext cx="107820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8460360" y="6507360"/>
              <a:ext cx="59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35280" y="616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udget: yen 22 mill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52360" y="2556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466560" y="2060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distribution in wide range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(~8Re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20Re)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nobtainable by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466560" y="305748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lobal distribution with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higher temporal resolution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(12h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2h)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unobtainable by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466560" y="407196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ow cost and short period of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educational programme for students and myse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466560" y="106380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Ryaman alpha line by PROCYON imag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108000" y="508464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[annecdote] Sputonik with a dog on board was, at that time, said to be very careless and the dog died. Wether or not that project was a great success is uncertain, but it certainly did contribute towards  later space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6720" y="1989000"/>
            <a:ext cx="51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PROCY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ss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pprox. 59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imension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630×W550×D55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o be launched in December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48000" y="1855800"/>
            <a:ext cx="2736720" cy="1431720"/>
            <a:chOff x="3348000" y="1855800"/>
            <a:chExt cx="2736720" cy="14317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3348000" y="1855800"/>
              <a:ext cx="2736720" cy="14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398920" y="3011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JAXA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1080" y="90972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dditional payload on Hayabusa 2 to be part of PROCYON, ultrasmall deepspace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62000" y="316080"/>
            <a:ext cx="86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Hydrogen) 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62000" y="4705200"/>
            <a:ext cx="88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1-2 weeks observation after launch 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spatial resolution &lt;0.4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5372280"/>
            <a:ext cx="82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wide area distribution of geocorona 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field of view 25-300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6164280"/>
            <a:ext cx="792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further 3 months observation expected 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patial resolution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&lt;2.4Re</a:t>
            </a:r>
            <a:r>
              <a:rPr b="0" lang="zh-CN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84960" y="2111400"/>
            <a:ext cx="2471760" cy="2321280"/>
            <a:chOff x="6384960" y="2111400"/>
            <a:chExt cx="2471760" cy="2321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384960" y="2111400"/>
              <a:ext cx="2471760" cy="19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655040" y="3973680"/>
              <a:ext cx="992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PROCYON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軌道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54160" y="1701720"/>
            <a:ext cx="57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PR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ximat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jec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ose f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y with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ptical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小塚ゴシック Pro L"/>
                <a:ea typeface="小塚ゴシック Pro 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vig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9440" y="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hat is geocor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41440" y="54936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xosphere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utermost layer of Earth atmosphere (altitude &gt;400k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333440" y="141300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in components</a:t>
            </a: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and helium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757080" y="21337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elective scattering of specific solar radiation of ultraviolet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68640"/>
            <a:ext cx="480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ltraviolet glow engulfing who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005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Ryman alpha line (121.6nm) is the brigh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869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小塚ゴシック Pro L"/>
                <a:ea typeface="小塚ゴシック Pro L"/>
              </a:rPr>
              <a:t>太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334840" y="306864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13080" y="4653000"/>
            <a:ext cx="4176720" cy="2634120"/>
            <a:chOff x="2413080" y="4653000"/>
            <a:chExt cx="4176720" cy="263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228840" y="4252320"/>
              <a:ext cx="2177280" cy="29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413080" y="6858360"/>
              <a:ext cx="417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geocorona distribution seen by Apollo 16 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arruthers et al.</a:t>
              </a: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1976]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4920" y="836640"/>
            <a:ext cx="5761080" cy="3702960"/>
            <a:chOff x="34920" y="836640"/>
            <a:chExt cx="5761080" cy="37029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42840" y="836640"/>
              <a:ext cx="5565960" cy="32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4920" y="4080600"/>
              <a:ext cx="576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Hydrogen atom density contour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：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equatorial (right) ,meridian (left) 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5440" y="6380280"/>
            <a:ext cx="8277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on-symmetry in day/night, N/S, morning/ev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-34920" y="4437000"/>
            <a:ext cx="58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WINS borne LAD(Lyman Alpha Detector) ob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8108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day side than night side in lower al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08800" y="907920"/>
            <a:ext cx="3716280" cy="4860000"/>
            <a:chOff x="5608800" y="907920"/>
            <a:chExt cx="3716280" cy="4860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5608800" y="907920"/>
              <a:ext cx="3536640" cy="42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951600" y="5126400"/>
              <a:ext cx="2373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ngular changes of hydrogen atom density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-106200" y="544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imilar  densities in very high altitude bet. day side and night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-506880" y="594828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evening side than morning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989240" y="594828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density in southern hemi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836640"/>
            <a:ext cx="612360" cy="2315160"/>
            <a:chOff x="1332000" y="836640"/>
            <a:chExt cx="612360" cy="2315160"/>
          </a:xfrm>
        </p:grpSpPr>
        <p:sp>
          <p:nvSpPr>
            <p:cNvPr id="88" name=""/>
            <p:cNvSpPr/>
            <p:nvPr/>
          </p:nvSpPr>
          <p:spPr>
            <a:xfrm>
              <a:off x="1691280" y="2448000"/>
              <a:ext cx="2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32000" y="836640"/>
              <a:ext cx="288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25280" y="1700280"/>
            <a:ext cx="2718000" cy="771840"/>
            <a:chOff x="125280" y="1700280"/>
            <a:chExt cx="2718000" cy="771840"/>
          </a:xfrm>
        </p:grpSpPr>
        <p:sp>
          <p:nvSpPr>
            <p:cNvPr id="91" name=""/>
            <p:cNvSpPr/>
            <p:nvPr/>
          </p:nvSpPr>
          <p:spPr>
            <a:xfrm>
              <a:off x="2519280" y="1700280"/>
              <a:ext cx="324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280" y="1768320"/>
              <a:ext cx="2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14560" y="1876320"/>
            <a:ext cx="2702160" cy="720360"/>
            <a:chOff x="2914560" y="1876320"/>
            <a:chExt cx="2702160" cy="720360"/>
          </a:xfrm>
        </p:grpSpPr>
        <p:sp>
          <p:nvSpPr>
            <p:cNvPr id="94" name=""/>
            <p:cNvSpPr/>
            <p:nvPr/>
          </p:nvSpPr>
          <p:spPr>
            <a:xfrm>
              <a:off x="5292720" y="1892880"/>
              <a:ext cx="32400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4560" y="1876320"/>
              <a:ext cx="28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11640" y="868320"/>
            <a:ext cx="612720" cy="2285640"/>
            <a:chOff x="4211640" y="868320"/>
            <a:chExt cx="612720" cy="2285640"/>
          </a:xfrm>
        </p:grpSpPr>
        <p:sp>
          <p:nvSpPr>
            <p:cNvPr id="97" name=""/>
            <p:cNvSpPr/>
            <p:nvPr/>
          </p:nvSpPr>
          <p:spPr>
            <a:xfrm>
              <a:off x="4500720" y="2450160"/>
              <a:ext cx="32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11640" y="868320"/>
              <a:ext cx="289080" cy="7038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小塚ゴシック Pro L"/>
                  <a:ea typeface="小塚ゴシック Pro 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55640" y="-9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spati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8720" y="2620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omic orbits in ex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6720" y="981000"/>
            <a:ext cx="8065440" cy="947160"/>
            <a:chOff x="396720" y="981000"/>
            <a:chExt cx="8065440" cy="947160"/>
          </a:xfrm>
        </p:grpSpPr>
        <p:grpSp>
          <p:nvGrpSpPr>
            <p:cNvPr id="102" name=""/>
            <p:cNvGrpSpPr/>
            <p:nvPr/>
          </p:nvGrpSpPr>
          <p:grpSpPr>
            <a:xfrm>
              <a:off x="504720" y="981000"/>
              <a:ext cx="7957440" cy="947160"/>
              <a:chOff x="504720" y="981000"/>
              <a:chExt cx="7957440" cy="947160"/>
            </a:xfrm>
          </p:grpSpPr>
          <p:sp>
            <p:nvSpPr>
              <p:cNvPr id="103" name=""/>
              <p:cNvSpPr/>
              <p:nvPr/>
            </p:nvSpPr>
            <p:spPr>
              <a:xfrm>
                <a:off x="504720" y="981000"/>
                <a:ext cx="795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Exobase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lowest altitude where atoms do not collid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83600" y="1389600"/>
                <a:ext cx="237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(4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800km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96720" y="1415160"/>
              <a:ext cx="23785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41440" y="1917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3 main atomic orbits in ex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-3240" y="2965320"/>
            <a:ext cx="910908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allistic orbit : atoms shoot out of exobase at less than escape velocity and come back in</a:t>
            </a:r>
            <a:r>
              <a:rPr b="0" lang="zh-CN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②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scape orbit : atoms shoot out of exosphere and are l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③ 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atellite orbit : scattered within closed orb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50655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lower altitude ballistic atom are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 higher altitude satellite orbit becomes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54160" y="616428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t very high altitude escape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become domin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699160" y="4927680"/>
            <a:ext cx="3287520" cy="1743120"/>
            <a:chOff x="5699160" y="4927680"/>
            <a:chExt cx="3287520" cy="1743120"/>
          </a:xfrm>
        </p:grpSpPr>
        <p:grpSp>
          <p:nvGrpSpPr>
            <p:cNvPr id="111" name=""/>
            <p:cNvGrpSpPr/>
            <p:nvPr/>
          </p:nvGrpSpPr>
          <p:grpSpPr>
            <a:xfrm>
              <a:off x="5699160" y="4940280"/>
              <a:ext cx="3287520" cy="1730520"/>
              <a:chOff x="5699160" y="4940280"/>
              <a:chExt cx="3287520" cy="17305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99160" y="4940280"/>
                <a:ext cx="3287520" cy="1730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13" name=""/>
              <p:cNvCxnSpPr/>
              <p:nvPr/>
            </p:nvCxnSpPr>
            <p:spPr>
              <a:xfrm>
                <a:off x="7029000" y="5966640"/>
                <a:ext cx="859320" cy="2178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14" name=""/>
            <p:cNvCxnSpPr/>
            <p:nvPr/>
          </p:nvCxnSpPr>
          <p:spPr>
            <a:xfrm flipV="1">
              <a:off x="6298920" y="5300280"/>
              <a:ext cx="36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6299280" y="5543640"/>
              <a:ext cx="46080" cy="46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4640" y="5518080"/>
              <a:ext cx="46080" cy="46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83280" y="5419800"/>
              <a:ext cx="2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00960" y="5311800"/>
              <a:ext cx="2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19" name=""/>
            <p:cNvCxnSpPr/>
            <p:nvPr/>
          </p:nvCxnSpPr>
          <p:spPr>
            <a:xfrm flipV="1">
              <a:off x="7235640" y="4939560"/>
              <a:ext cx="4705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7451640" y="5388120"/>
              <a:ext cx="4608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560" y="4927680"/>
              <a:ext cx="2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67640" y="628956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小塚ゴシック Pro L"/>
                <a:ea typeface="小塚ゴシック Pro L"/>
              </a:rPr>
              <a:t>exob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8720" y="46080"/>
            <a:ext cx="6985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Magnetic storm and number of hydrogen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36360" y="1197000"/>
            <a:ext cx="6769080" cy="3425760"/>
            <a:chOff x="-36360" y="1197000"/>
            <a:chExt cx="6769080" cy="34257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4920" y="1197000"/>
              <a:ext cx="600696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-36360" y="4163760"/>
              <a:ext cx="676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Dst index(above)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と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TWINS/LAD 3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〜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8R</a:t>
              </a:r>
              <a:r>
                <a:rPr b="0" lang="en-US" sz="8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E  number of hydrogen atoms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(below) 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Bailey and Gruntman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3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6720" y="5300640"/>
            <a:ext cx="20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hen st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5300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6-17% increase in number of hydrogen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side 3-8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437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emporal resolution: approx. 12 hours (one revolution is 12 hou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25440" y="6095880"/>
            <a:ext cx="8748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unable to time-resolve changes in number of hydrogen ato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response to temporal changes of magnetic st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138720" y="1216080"/>
            <a:ext cx="3834000" cy="2902680"/>
            <a:chOff x="6138720" y="1216080"/>
            <a:chExt cx="3834000" cy="2902680"/>
          </a:xfrm>
        </p:grpSpPr>
        <p:sp>
          <p:nvSpPr>
            <p:cNvPr id="132" name=""/>
            <p:cNvSpPr/>
            <p:nvPr/>
          </p:nvSpPr>
          <p:spPr>
            <a:xfrm>
              <a:off x="6515280" y="3659760"/>
              <a:ext cx="345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D observation geometr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Bailey and Gruntman, 2011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6138720" y="1216080"/>
              <a:ext cx="2735280" cy="243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6720" y="693720"/>
            <a:ext cx="82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bservations until now mainly via earthbound satel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1197000"/>
            <a:ext cx="821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extends up to 20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181080" y="220500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examples at far distance from earth 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only Mariner 5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Wallace et al.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1970], Apollo 16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Carruthers et al.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1976], Nozomi [</a:t>
            </a:r>
            <a:r>
              <a:rPr b="0" i="1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suchiya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200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3571920"/>
            <a:ext cx="5905440" cy="318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&lt;objectives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of geocorona up to</a:t>
            </a:r>
            <a:r>
              <a:rPr b="1" lang="zh-CN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〜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20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ydrogen density at extreme altit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higher temporal resolution than earth bound satellites (1 hou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1" lang="en-US" sz="2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new insight into the loss process of earth atmosph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maging of geocor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6360" y="4346640"/>
            <a:ext cx="4105080" cy="2541240"/>
            <a:chOff x="-36360" y="4346640"/>
            <a:chExt cx="4105080" cy="2541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 rot="5400000">
              <a:off x="406080" y="4025880"/>
              <a:ext cx="2248200" cy="28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-36360" y="6626520"/>
              <a:ext cx="410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as seen by Apollo 16 [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Carruthers et al.</a:t>
              </a:r>
              <a:r>
                <a:rPr b="0" lang="en-US" sz="11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1976]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4160" y="1701720"/>
            <a:ext cx="90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ifficult to obtain density distribution at extremely high alt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440" y="-88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geocorona imaging-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106200" y="-9864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1) Extremely high altitude(&gt;8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 geocorona(H Ly-α)distribution to be im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titude distribution of hydrogen atoms at high altitude in single imag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Mariner 5: ~16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Apollo 16: ~10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, Nozomi: ~24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iming of observation: 7-14 days after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①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quantising hydrogen atoms loss process by charge exchange reaction and photoion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1570600">
            <a:off x="6515280" y="2781360"/>
            <a:ext cx="2581200" cy="2201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24640" y="5343480"/>
            <a:ext cx="261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Apollo 16 imaging of geocorona distribution [Carruthers et al., 1976]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852640"/>
            <a:ext cx="64292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2) Temporal changes in high altitude geocorona and magnetic 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nsity increase (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3-8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E)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in response to magnetic storm, reason unkown </a:t>
            </a:r>
            <a:r>
              <a:rPr b="0" lang="en-US" sz="18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[Bailey and Gruntman, 2013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Timing of observation: 10days to 3 months after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② </a:t>
            </a:r>
            <a:r>
              <a:rPr b="0" lang="en-US" sz="24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Quantising hydrogen atom supply process into ex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①</a:t>
            </a:r>
            <a:r>
              <a:rPr b="0" lang="en-US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and② leading to quantitative understanding of atmospheric loss proess</a:t>
            </a:r>
            <a:r>
              <a:rPr b="0" lang="zh-CN" sz="2800" spc="-1" strike="noStrike">
                <a:solidFill>
                  <a:srgbClr val="ff0000"/>
                </a:solidFill>
                <a:latin typeface="小塚ゴシック Pro L"/>
                <a:ea typeface="小塚ゴシック Pro L"/>
              </a:rPr>
              <a:t>より大気散逸過程の定量的理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6083280" y="4076640"/>
            <a:ext cx="2952720" cy="2915280"/>
            <a:chOff x="6083280" y="4076640"/>
            <a:chExt cx="2952720" cy="29152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6083280" y="4076640"/>
              <a:ext cx="2952720" cy="24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211800" y="6532920"/>
              <a:ext cx="272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MCP+RAE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模式図 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[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Yoshioka et al.</a:t>
              </a: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, 2010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11280" y="3492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AICA</a:t>
            </a:r>
            <a:r>
              <a:rPr b="0" lang="zh-CN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Geocoronal Hydro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Lyman Alpha Imaging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-466560" y="1413000"/>
            <a:ext cx="5473440" cy="317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88000" y="1701720"/>
            <a:ext cx="4248000" cy="2354760"/>
            <a:chOff x="4788000" y="1701720"/>
            <a:chExt cx="4248000" cy="2354760"/>
          </a:xfrm>
        </p:grpSpPr>
        <p:grpSp>
          <p:nvGrpSpPr>
            <p:cNvPr id="154" name=""/>
            <p:cNvGrpSpPr/>
            <p:nvPr/>
          </p:nvGrpSpPr>
          <p:grpSpPr>
            <a:xfrm>
              <a:off x="4788000" y="1701720"/>
              <a:ext cx="4248000" cy="2354760"/>
              <a:chOff x="4788000" y="1701720"/>
              <a:chExt cx="4248000" cy="23547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788000" y="1701720"/>
                <a:ext cx="4248000" cy="2354760"/>
                <a:chOff x="4788000" y="1701720"/>
                <a:chExt cx="4248000" cy="235476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8000" y="1701720"/>
                  <a:ext cx="4248000" cy="235476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7" name=""/>
                <p:cNvCxnSpPr/>
                <p:nvPr/>
              </p:nvCxnSpPr>
              <p:spPr>
                <a:xfrm flipV="1">
                  <a:off x="5076360" y="2328840"/>
                  <a:ext cx="1477080" cy="12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  <p:sp>
            <p:nvSpPr>
              <p:cNvPr id="158" name=""/>
              <p:cNvSpPr/>
              <p:nvPr/>
            </p:nvSpPr>
            <p:spPr>
              <a:xfrm>
                <a:off x="5364000" y="2180520"/>
                <a:ext cx="72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小塚ゴシック Pro L"/>
                    <a:ea typeface="小塚ゴシック Pro L"/>
                  </a:rPr>
                  <a:t>120mm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962840" y="3750840"/>
              <a:ext cx="107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LAICA</a:t>
              </a:r>
              <a:r>
                <a:rPr b="0" lang="zh-CN" sz="1200" spc="-1" strike="noStrike">
                  <a:solidFill>
                    <a:srgbClr val="000000"/>
                  </a:solidFill>
                  <a:latin typeface="小塚ゴシック Pro L"/>
                  <a:ea typeface="小塚ゴシック Pro L"/>
                </a:rPr>
                <a:t>形状図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5280" y="5400720"/>
            <a:ext cx="532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光学系：カセグレン望遠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　主鏡・副鏡ともに球面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(Al+Mg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小塚ゴシック Pro L"/>
                <a:ea typeface="小塚ゴシック Pro 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719280" y="6165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フードなしで迷光対策が必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47984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detector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same as that on Bepicolombo/MPO's PHEBUS/FUV</a:t>
            </a:r>
            <a:r>
              <a:rPr b="0" lang="zh-CN" sz="2400" spc="-1" strike="noStrike">
                <a:solidFill>
                  <a:srgbClr val="000000"/>
                </a:solidFill>
                <a:latin typeface="小塚ゴシック Pro L"/>
                <a:ea typeface="小塚ゴシック Pro L"/>
              </a:rPr>
              <a:t>と同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6:30:29Z</dcterms:created>
  <dc:creator>Masaki_S</dc:creator>
  <dc:description/>
  <dc:language>en-US</dc:language>
  <cp:lastModifiedBy>User</cp:lastModifiedBy>
  <dcterms:modified xsi:type="dcterms:W3CDTF">2014-08-06T07:57:48Z</dcterms:modified>
  <cp:revision>221</cp:revision>
  <dc:subject/>
  <dc:title>超小型深宇宙探査機搭載用 ジオコロナイメージャの開発</dc:title>
</cp:coreProperties>
</file>