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wmf" ContentType="image/x-wmf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32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9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4.jpeg" ContentType="image/jpeg"/>
  <Override PartName="/ppt/media/image25.png" ContentType="image/png"/>
  <Override PartName="/ppt/media/image37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E8DF-5D80-4142-8B0C-1B31E2A73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8E5A-694A-414F-B930-596E3371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BAF1-CF41-4906-9926-3AE3ADD9B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90C7-9EF2-41D5-B262-82E875E68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39F6-0B64-4CF6-9C96-5A6945E5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ED5A-DD54-404D-906E-636CE1D1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1FF5-05B9-4291-8E79-FEF1B045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6CC1-07B6-4EEC-BB73-8AC5C0F3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DDCF-4557-46D2-A748-CD2C9CE4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FCD3-AEDF-4E0F-B09C-0C8F13E5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BEDB-7B65-4D02-979A-1D1940C0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BFFC-5E1C-436F-9797-7881B2CD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4059-ECF2-4EC5-A395-AEB7969F03D8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ED7E-F5F9-4741-A77F-1B0979880BC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4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pn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63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Development of Lyman Alpha Imaging Camera (LAICA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geocorona imaging device for PROCYON, ultrasmall deep space pro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8600" y="5516280"/>
            <a:ext cx="8209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Shingo Kameda et al from Rikkyou U, Tokyo U, and ISAS/JAX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rot="270600">
            <a:off x="4500360" y="1989000"/>
            <a:ext cx="3832200" cy="1936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796000" y="3786120"/>
            <a:ext cx="1920960" cy="144000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466560" y="1873080"/>
            <a:ext cx="3662640" cy="1912680"/>
            <a:chOff x="466560" y="1873080"/>
            <a:chExt cx="3662640" cy="1912680"/>
          </a:xfrm>
        </p:grpSpPr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466560" y="1873080"/>
              <a:ext cx="3660840" cy="19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3211560" y="3415680"/>
              <a:ext cx="91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[JAXA]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6073200" y="5229360"/>
            <a:ext cx="136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laika.paina.jp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979640" y="3998880"/>
            <a:ext cx="1628640" cy="1085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00080" y="5157720"/>
            <a:ext cx="457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http://kuma1117.cocolog-nifty.com/blog/images/2011/01/13/00001297.jp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6083280" y="4076640"/>
            <a:ext cx="2952720" cy="2915280"/>
            <a:chOff x="6083280" y="4076640"/>
            <a:chExt cx="2952720" cy="291528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6083280" y="4076640"/>
              <a:ext cx="2952720" cy="245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6211800" y="6532920"/>
              <a:ext cx="2722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MCP+RAE</a:t>
              </a:r>
              <a:r>
                <a:rPr b="0" lang="zh-CN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模式図 </a:t>
              </a:r>
              <a:r>
                <a:rPr b="0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[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Yoshioka et al.</a:t>
              </a:r>
              <a:r>
                <a:rPr b="0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, 2010]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611280" y="34920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LAICA</a:t>
            </a:r>
            <a:r>
              <a:rPr b="0" lang="zh-CN" sz="32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(Geocoronal Hydroge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Lyman Alpha Imaging CAme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788000" y="1700280"/>
            <a:ext cx="4248000" cy="2355120"/>
            <a:chOff x="4788000" y="1700280"/>
            <a:chExt cx="4248000" cy="2355120"/>
          </a:xfrm>
        </p:grpSpPr>
        <p:grpSp>
          <p:nvGrpSpPr>
            <p:cNvPr id="168" name=""/>
            <p:cNvGrpSpPr/>
            <p:nvPr/>
          </p:nvGrpSpPr>
          <p:grpSpPr>
            <a:xfrm>
              <a:off x="4788000" y="1700280"/>
              <a:ext cx="4248000" cy="2355120"/>
              <a:chOff x="4788000" y="1700280"/>
              <a:chExt cx="4248000" cy="235512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788000" y="1700280"/>
                <a:ext cx="4248000" cy="2355120"/>
                <a:chOff x="4788000" y="1700280"/>
                <a:chExt cx="4248000" cy="2355120"/>
              </a:xfrm>
            </p:grpSpPr>
            <p:pic>
              <p:nvPicPr>
                <p:cNvPr id="17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788000" y="1700280"/>
                  <a:ext cx="4248000" cy="235512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71" name=""/>
                <p:cNvCxnSpPr/>
                <p:nvPr/>
              </p:nvCxnSpPr>
              <p:spPr>
                <a:xfrm flipV="1">
                  <a:off x="5076360" y="2327400"/>
                  <a:ext cx="1477080" cy="1256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headEnd len="med" type="arrow" w="med"/>
                  <a:tailEnd len="med" type="arrow" w="med"/>
                </a:ln>
              </p:spPr>
            </p:cxnSp>
          </p:grpSp>
          <p:sp>
            <p:nvSpPr>
              <p:cNvPr id="172" name=""/>
              <p:cNvSpPr/>
              <p:nvPr/>
            </p:nvSpPr>
            <p:spPr>
              <a:xfrm>
                <a:off x="5364000" y="2178720"/>
                <a:ext cx="7207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小塚ゴシック Pro L"/>
                    <a:ea typeface="小塚ゴシック Pro L"/>
                  </a:rPr>
                  <a:t>120mm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7962840" y="3749400"/>
              <a:ext cx="107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LAICA</a:t>
              </a:r>
              <a:r>
                <a:rPr b="0" lang="zh-CN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形状図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325440" y="5084640"/>
            <a:ext cx="53290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optical system: casegrain telesco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both main and sub mirros are spherical (Al+Mg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小塚ゴシック Pro L"/>
                <a:ea typeface="小塚ゴシック Pro 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719280" y="616572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no hood protection, so certain measures are requi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/>
          <p:nvPr/>
        </p:nvSpPr>
        <p:spPr>
          <a:xfrm>
            <a:off x="-825480" y="4221000"/>
            <a:ext cx="669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detector: same as that on</a:t>
            </a:r>
            <a:r>
              <a:rPr b="0" lang="zh-CN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Bepicolombo/MPO's PHEBUS/FU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305240" y="1844640"/>
            <a:ext cx="3814920" cy="2373120"/>
            <a:chOff x="4305240" y="1844640"/>
            <a:chExt cx="3814920" cy="2373120"/>
          </a:xfrm>
        </p:grpSpPr>
        <p:pic>
          <p:nvPicPr>
            <p:cNvPr id="178" name="" descr=""/>
            <p:cNvPicPr/>
            <p:nvPr/>
          </p:nvPicPr>
          <p:blipFill>
            <a:blip r:embed="rId3"/>
            <a:stretch/>
          </p:blipFill>
          <p:spPr>
            <a:xfrm>
              <a:off x="4724280" y="1844640"/>
              <a:ext cx="3394080" cy="21175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79" name=""/>
            <p:cNvCxnSpPr/>
            <p:nvPr/>
          </p:nvCxnSpPr>
          <p:spPr>
            <a:xfrm flipV="1">
              <a:off x="4854240" y="2152800"/>
              <a:ext cx="1569240" cy="32400"/>
            </a:xfrm>
            <a:prstGeom prst="straightConnector1">
              <a:avLst/>
            </a:prstGeom>
            <a:ln w="38160">
              <a:solidFill>
                <a:srgbClr val="f79646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0" name=""/>
            <p:cNvCxnSpPr/>
            <p:nvPr/>
          </p:nvCxnSpPr>
          <p:spPr>
            <a:xfrm>
              <a:off x="4789440" y="2212920"/>
              <a:ext cx="131040" cy="1358280"/>
            </a:xfrm>
            <a:prstGeom prst="straightConnector1">
              <a:avLst/>
            </a:prstGeom>
            <a:ln w="38160">
              <a:solidFill>
                <a:srgbClr val="f79646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81" name=""/>
            <p:cNvSpPr/>
            <p:nvPr/>
          </p:nvSpPr>
          <p:spPr>
            <a:xfrm>
              <a:off x="6967440" y="3941280"/>
              <a:ext cx="115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LAICA (PM)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305240" y="2769840"/>
              <a:ext cx="61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80mm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03960" y="2183040"/>
              <a:ext cx="66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118mm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401400" y="1341360"/>
            <a:ext cx="3480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cal lenngth: 400m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eld of view: 3 degre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gular resolution: 0.024 dgre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equency range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122+/-10n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nsitivity: 3.4x10-3(cts/s/pix/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 mirror effective radius: 71m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bmirror effective radius: 32m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ss: 2.14k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 consumption: max 5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00mmx160mmx130mm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826920" y="40464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Spherical Cassegrain mirr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1484280"/>
            <a:ext cx="54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detector: approx. 160 µm per pix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1114560" y="194616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⇒</a:t>
            </a: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spot diamter </a:t>
            </a:r>
            <a:r>
              <a:rPr b="0" lang="zh-CN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＜</a:t>
            </a: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160µm within FOV 3 degr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529160" y="2492280"/>
            <a:ext cx="4614840" cy="4387680"/>
            <a:chOff x="4529160" y="2492280"/>
            <a:chExt cx="4614840" cy="4387680"/>
          </a:xfrm>
        </p:grpSpPr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4529160" y="2492280"/>
              <a:ext cx="4614840" cy="41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6443640" y="6603480"/>
              <a:ext cx="266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spot diagram of optical system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39640" y="3860640"/>
            <a:ext cx="3673080" cy="2803680"/>
            <a:chOff x="539640" y="3860640"/>
            <a:chExt cx="3673080" cy="2803680"/>
          </a:xfrm>
        </p:grpSpPr>
        <p:grpSp>
          <p:nvGrpSpPr>
            <p:cNvPr id="192" name=""/>
            <p:cNvGrpSpPr/>
            <p:nvPr/>
          </p:nvGrpSpPr>
          <p:grpSpPr>
            <a:xfrm>
              <a:off x="539640" y="3860640"/>
              <a:ext cx="3673080" cy="2803680"/>
              <a:chOff x="539640" y="3860640"/>
              <a:chExt cx="3673080" cy="2803680"/>
            </a:xfrm>
          </p:grpSpPr>
          <p:pic>
            <p:nvPicPr>
              <p:cNvPr id="19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39640" y="3860640"/>
                <a:ext cx="3530160" cy="234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>
                <a:off x="2988360" y="6205320"/>
                <a:ext cx="1224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小塚ゴシック Pro L"/>
                    <a:ea typeface="小塚ゴシック Pro L"/>
                  </a:rPr>
                  <a:t>light path outline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722160" y="5510160"/>
              <a:ext cx="482760" cy="665280"/>
              <a:chOff x="722160" y="5510160"/>
              <a:chExt cx="482760" cy="66528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790200" y="5702400"/>
                <a:ext cx="360720" cy="365040"/>
                <a:chOff x="790200" y="5702400"/>
                <a:chExt cx="360720" cy="365040"/>
              </a:xfrm>
            </p:grpSpPr>
            <p:cxnSp>
              <p:nvCxnSpPr>
                <p:cNvPr id="197" name=""/>
                <p:cNvCxnSpPr/>
                <p:nvPr/>
              </p:nvCxnSpPr>
              <p:spPr>
                <a:xfrm flipV="1">
                  <a:off x="790200" y="5702400"/>
                  <a:ext cx="1080" cy="3650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cxnSp>
              <p:nvCxnSpPr>
                <p:cNvPr id="198" name=""/>
                <p:cNvCxnSpPr/>
                <p:nvPr/>
              </p:nvCxnSpPr>
              <p:spPr>
                <a:xfrm>
                  <a:off x="790200" y="6066720"/>
                  <a:ext cx="36108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</p:grpSp>
          <p:sp>
            <p:nvSpPr>
              <p:cNvPr id="199" name=""/>
              <p:cNvSpPr/>
              <p:nvPr/>
            </p:nvSpPr>
            <p:spPr>
              <a:xfrm>
                <a:off x="722160" y="5510160"/>
                <a:ext cx="71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小塚ゴシック Pro L"/>
                    <a:ea typeface="小塚ゴシック Pro L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33640" y="5929200"/>
                <a:ext cx="71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小塚ゴシック Pro L"/>
                    <a:ea typeface="小塚ゴシック Pro L"/>
                  </a:rPr>
                  <a:t>z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768240" y="6027840"/>
              <a:ext cx="46080" cy="46080"/>
            </a:xfrm>
            <a:prstGeom prst="flowChartSummingJunction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250920" y="2444760"/>
            <a:ext cx="54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attachment preci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X,Ydirection: 1m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Zdirection: 0.06m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759200" y="3003480"/>
            <a:ext cx="4043520" cy="2781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4819320" y="3141720"/>
            <a:ext cx="435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↑</a:t>
            </a:r>
            <a:r>
              <a:rPr b="0" lang="en-US" sz="32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beam entrance angle+/-1.5de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390600" y="1353960"/>
            <a:ext cx="3663720" cy="25210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333360" y="3875040"/>
            <a:ext cx="3630600" cy="24973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4819680" y="304920"/>
            <a:ext cx="3924360" cy="26985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348000" y="5965920"/>
            <a:ext cx="5859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↑</a:t>
            </a:r>
            <a:r>
              <a:rPr b="0" lang="en-US" sz="1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no direct light path from entrance to detector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strain light is less than 1/100 of hydrogen glow in interstellar sp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613080" y="52560"/>
            <a:ext cx="1025532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strain light protection (lack of spac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492360" y="4869000"/>
            <a:ext cx="5545440" cy="157788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/>
          <p:nvPr/>
        </p:nvSpPr>
        <p:spPr>
          <a:xfrm>
            <a:off x="682560" y="190440"/>
            <a:ext cx="863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Optical system adhesion (Rikkyo U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682560" y="112392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mary/Secondary mirror &amp; bandpass filter were attached using a space-qualified adhesive and glass beads (φ100 µ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5889600"/>
            <a:ext cx="1892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rimary mirro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3433680" y="4881600"/>
            <a:ext cx="57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bration, shock, and thermal tes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/>
          <p:nvPr/>
        </p:nvSpPr>
        <p:spPr>
          <a:xfrm>
            <a:off x="3800160" y="5973840"/>
            <a:ext cx="35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mperature range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20℃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3864240" y="5305320"/>
            <a:ext cx="269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bration level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7 [Grms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/>
          <p:nvPr/>
        </p:nvSpPr>
        <p:spPr>
          <a:xfrm>
            <a:off x="3887640" y="5640480"/>
            <a:ext cx="22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ck level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0 [G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908000" y="2038320"/>
            <a:ext cx="6768720" cy="2386440"/>
            <a:chOff x="1908000" y="2038320"/>
            <a:chExt cx="6768720" cy="2386440"/>
          </a:xfrm>
        </p:grpSpPr>
        <p:grpSp>
          <p:nvGrpSpPr>
            <p:cNvPr id="219" name=""/>
            <p:cNvGrpSpPr/>
            <p:nvPr/>
          </p:nvGrpSpPr>
          <p:grpSpPr>
            <a:xfrm>
              <a:off x="1908000" y="2038320"/>
              <a:ext cx="6768720" cy="2386440"/>
              <a:chOff x="1908000" y="2038320"/>
              <a:chExt cx="6768720" cy="2386440"/>
            </a:xfrm>
          </p:grpSpPr>
          <p:sp>
            <p:nvSpPr>
              <p:cNvPr id="220" name=""/>
              <p:cNvSpPr/>
              <p:nvPr/>
            </p:nvSpPr>
            <p:spPr>
              <a:xfrm>
                <a:off x="1908000" y="2038320"/>
                <a:ext cx="3029760" cy="1118880"/>
              </a:xfrm>
              <a:prstGeom prst="wedgeRoundRectCallout">
                <a:avLst>
                  <a:gd name="adj1" fmla="val 34486"/>
                  <a:gd name="adj2" fmla="val 87356"/>
                  <a:gd name="adj3" fmla="val 16667"/>
                </a:avLst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Adhesive and glass bead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Calibri"/>
                  </a:rPr>
                  <a:t>・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hickness control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Calibri"/>
                  </a:rPr>
                  <a:t>・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repeatability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21" name=""/>
              <p:cNvGrpSpPr/>
              <p:nvPr/>
            </p:nvGrpSpPr>
            <p:grpSpPr>
              <a:xfrm>
                <a:off x="4164480" y="3206160"/>
                <a:ext cx="4512240" cy="1218600"/>
                <a:chOff x="4164480" y="3206160"/>
                <a:chExt cx="4512240" cy="1218600"/>
              </a:xfrm>
            </p:grpSpPr>
            <p:grpSp>
              <p:nvGrpSpPr>
                <p:cNvPr id="222" name=""/>
                <p:cNvGrpSpPr/>
                <p:nvPr/>
              </p:nvGrpSpPr>
              <p:grpSpPr>
                <a:xfrm>
                  <a:off x="4164480" y="3206160"/>
                  <a:ext cx="4510440" cy="647640"/>
                  <a:chOff x="4164480" y="3206160"/>
                  <a:chExt cx="4510440" cy="64764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>
                    <a:off x="4518360" y="3506760"/>
                    <a:ext cx="3849840" cy="275040"/>
                  </a:xfrm>
                  <a:prstGeom prst="ellipse">
                    <a:avLst/>
                  </a:prstGeom>
                  <a:solidFill>
                    <a:srgbClr val="ccecff"/>
                  </a:solidFill>
                  <a:ln w="255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4689720" y="3206160"/>
                    <a:ext cx="3503880" cy="399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4778640" y="3606120"/>
                    <a:ext cx="87480" cy="100440"/>
                  </a:xfrm>
                  <a:prstGeom prst="ellipse">
                    <a:avLst/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5139360" y="3606120"/>
                    <a:ext cx="87480" cy="100440"/>
                  </a:xfrm>
                  <a:prstGeom prst="ellipse">
                    <a:avLst/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5508000" y="3606120"/>
                    <a:ext cx="87480" cy="100440"/>
                  </a:xfrm>
                  <a:prstGeom prst="ellipse">
                    <a:avLst/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5879520" y="3606120"/>
                    <a:ext cx="87480" cy="100440"/>
                  </a:xfrm>
                  <a:prstGeom prst="ellipse">
                    <a:avLst/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6251400" y="3606120"/>
                    <a:ext cx="87480" cy="100440"/>
                  </a:xfrm>
                  <a:prstGeom prst="ellipse">
                    <a:avLst/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6621480" y="3606120"/>
                    <a:ext cx="87120" cy="100440"/>
                  </a:xfrm>
                  <a:prstGeom prst="ellipse">
                    <a:avLst/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6993000" y="3606120"/>
                    <a:ext cx="87480" cy="100440"/>
                  </a:xfrm>
                  <a:prstGeom prst="ellipse">
                    <a:avLst/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7364520" y="3606120"/>
                    <a:ext cx="87480" cy="100440"/>
                  </a:xfrm>
                  <a:prstGeom prst="ellipse">
                    <a:avLst/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7733160" y="3606120"/>
                    <a:ext cx="87480" cy="100440"/>
                  </a:xfrm>
                  <a:prstGeom prst="ellipse">
                    <a:avLst/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8105040" y="3606120"/>
                    <a:ext cx="87480" cy="100440"/>
                  </a:xfrm>
                  <a:prstGeom prst="ellipse">
                    <a:avLst/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4164480" y="3703680"/>
                    <a:ext cx="4510440" cy="150120"/>
                  </a:xfrm>
                  <a:prstGeom prst="rect">
                    <a:avLst/>
                  </a:prstGeom>
                  <a:solidFill>
                    <a:srgbClr val="59595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cxnSp>
              <p:nvCxnSpPr>
                <p:cNvPr id="236" name=""/>
                <p:cNvCxnSpPr/>
                <p:nvPr/>
              </p:nvCxnSpPr>
              <p:spPr>
                <a:xfrm flipH="1" flipV="1">
                  <a:off x="6547320" y="3910320"/>
                  <a:ext cx="305280" cy="291240"/>
                </a:xfrm>
                <a:prstGeom prst="straightConnector1">
                  <a:avLst/>
                </a:prstGeom>
                <a:ln w="9360">
                  <a:solidFill>
                    <a:srgbClr val="4a7ebc"/>
                  </a:solidFill>
                  <a:miter/>
                  <a:tailEnd len="med" type="arrow" w="med"/>
                </a:ln>
              </p:spPr>
            </p:cxnSp>
            <p:sp>
              <p:nvSpPr>
                <p:cNvPr id="237" name=""/>
                <p:cNvSpPr/>
                <p:nvPr/>
              </p:nvSpPr>
              <p:spPr>
                <a:xfrm>
                  <a:off x="6852240" y="4056480"/>
                  <a:ext cx="1824480" cy="368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Aluminum plat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38" name=""/>
            <p:cNvSpPr/>
            <p:nvPr/>
          </p:nvSpPr>
          <p:spPr>
            <a:xfrm>
              <a:off x="5778360" y="2276640"/>
              <a:ext cx="288000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imary/Secondary mirror</a:t>
              </a: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　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r Bandpass filt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39" name=""/>
            <p:cNvCxnSpPr>
              <a:stCxn id="238" idx="2"/>
            </p:cNvCxnSpPr>
            <p:nvPr/>
          </p:nvCxnSpPr>
          <p:spPr>
            <a:xfrm flipH="1">
              <a:off x="6852960" y="2922480"/>
              <a:ext cx="365760" cy="237240"/>
            </a:xfrm>
            <a:prstGeom prst="straightConnector1">
              <a:avLst/>
            </a:prstGeom>
            <a:ln w="9360">
              <a:solidFill>
                <a:srgbClr val="4a7ebc"/>
              </a:solidFill>
              <a:miter/>
              <a:tailEnd len="med" type="arrow" w="med"/>
            </a:ln>
          </p:spPr>
        </p:cxnSp>
      </p:grp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785880" y="3841920"/>
            <a:ext cx="2244600" cy="2004840"/>
          </a:xfrm>
          <a:prstGeom prst="rect">
            <a:avLst/>
          </a:prstGeom>
          <a:ln w="0">
            <a:noFill/>
          </a:ln>
        </p:spPr>
      </p:pic>
      <p:cxnSp>
        <p:nvCxnSpPr>
          <p:cNvPr id="241" name=""/>
          <p:cNvCxnSpPr/>
          <p:nvPr/>
        </p:nvCxnSpPr>
        <p:spPr>
          <a:xfrm flipH="1">
            <a:off x="2315880" y="3777840"/>
            <a:ext cx="1753200" cy="8737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2560" y="26028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dhesion of PM mirr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2627280" y="1628640"/>
            <a:ext cx="6408720" cy="5113440"/>
            <a:chOff x="2627280" y="1628640"/>
            <a:chExt cx="6408720" cy="5113440"/>
          </a:xfrm>
        </p:grpSpPr>
        <p:pic>
          <p:nvPicPr>
            <p:cNvPr id="244" name="" descr=""/>
            <p:cNvPicPr/>
            <p:nvPr/>
          </p:nvPicPr>
          <p:blipFill>
            <a:blip r:embed="rId1"/>
            <a:stretch/>
          </p:blipFill>
          <p:spPr>
            <a:xfrm>
              <a:off x="2917800" y="1844640"/>
              <a:ext cx="3019320" cy="191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2"/>
            <a:stretch/>
          </p:blipFill>
          <p:spPr>
            <a:xfrm>
              <a:off x="6227640" y="1765440"/>
              <a:ext cx="2244960" cy="20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3886200" y="3768840"/>
              <a:ext cx="234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reparation of the adhes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120080" y="375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rimary mirror(PM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627280" y="1628640"/>
              <a:ext cx="6337440" cy="2573640"/>
            </a:xfrm>
            <a:prstGeom prst="roundRect">
              <a:avLst>
                <a:gd name="adj" fmla="val 16657"/>
              </a:avLst>
            </a:prstGeom>
            <a:noFill/>
            <a:ln w="25560">
              <a:solidFill>
                <a:srgbClr val="8eb4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2698920" y="4365720"/>
              <a:ext cx="6337080" cy="2376360"/>
              <a:chOff x="2698920" y="4365720"/>
              <a:chExt cx="6337080" cy="2376360"/>
            </a:xfrm>
          </p:grpSpPr>
          <p:pic>
            <p:nvPicPr>
              <p:cNvPr id="25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081840" y="4492800"/>
                <a:ext cx="2652480" cy="19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921040" y="4726080"/>
                <a:ext cx="3058920" cy="157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"/>
              <p:cNvSpPr/>
              <p:nvPr/>
            </p:nvSpPr>
            <p:spPr>
              <a:xfrm>
                <a:off x="3851280" y="6362640"/>
                <a:ext cx="230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Preparation of the adhesion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031880" y="6362640"/>
                <a:ext cx="1778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secondary mirror(PM)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698920" y="4365720"/>
                <a:ext cx="6337080" cy="2376360"/>
              </a:xfrm>
              <a:prstGeom prst="roundRect">
                <a:avLst>
                  <a:gd name="adj" fmla="val 16699"/>
                </a:avLst>
              </a:prstGeom>
              <a:noFill/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55" name=""/>
          <p:cNvSpPr/>
          <p:nvPr/>
        </p:nvSpPr>
        <p:spPr>
          <a:xfrm>
            <a:off x="108000" y="109548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①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mary mirr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/>
          <p:nvPr/>
        </p:nvSpPr>
        <p:spPr>
          <a:xfrm>
            <a:off x="108000" y="4133880"/>
            <a:ext cx="36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②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ary mirr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7" name=""/>
          <p:cNvCxnSpPr/>
          <p:nvPr/>
        </p:nvCxnSpPr>
        <p:spPr>
          <a:xfrm>
            <a:off x="2195640" y="2800080"/>
            <a:ext cx="1297440" cy="486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58" name=""/>
          <p:cNvSpPr/>
          <p:nvPr/>
        </p:nvSpPr>
        <p:spPr>
          <a:xfrm>
            <a:off x="540000" y="2362320"/>
            <a:ext cx="167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ture of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ace-adhesi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amp; glass bea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179280" y="2637000"/>
            <a:ext cx="4117680" cy="3821040"/>
            <a:chOff x="179280" y="2637000"/>
            <a:chExt cx="4117680" cy="3821040"/>
          </a:xfrm>
        </p:grpSpPr>
        <p:grpSp>
          <p:nvGrpSpPr>
            <p:cNvPr id="260" name=""/>
            <p:cNvGrpSpPr/>
            <p:nvPr/>
          </p:nvGrpSpPr>
          <p:grpSpPr>
            <a:xfrm>
              <a:off x="179280" y="2637000"/>
              <a:ext cx="4117680" cy="3821040"/>
              <a:chOff x="179280" y="2637000"/>
              <a:chExt cx="4117680" cy="3821040"/>
            </a:xfrm>
          </p:grpSpPr>
          <p:grpSp>
            <p:nvGrpSpPr>
              <p:cNvPr id="261" name=""/>
              <p:cNvGrpSpPr/>
              <p:nvPr/>
            </p:nvGrpSpPr>
            <p:grpSpPr>
              <a:xfrm>
                <a:off x="179280" y="2637000"/>
                <a:ext cx="4117680" cy="3821040"/>
                <a:chOff x="179280" y="2637000"/>
                <a:chExt cx="4117680" cy="3821040"/>
              </a:xfrm>
            </p:grpSpPr>
            <p:grpSp>
              <p:nvGrpSpPr>
                <p:cNvPr id="262" name=""/>
                <p:cNvGrpSpPr/>
                <p:nvPr/>
              </p:nvGrpSpPr>
              <p:grpSpPr>
                <a:xfrm>
                  <a:off x="190080" y="2637000"/>
                  <a:ext cx="4106880" cy="3821040"/>
                  <a:chOff x="190080" y="2637000"/>
                  <a:chExt cx="4106880" cy="382104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>
                    <a:off x="190080" y="2637000"/>
                    <a:ext cx="4106880" cy="3821040"/>
                  </a:xfrm>
                  <a:prstGeom prst="rect">
                    <a:avLst/>
                  </a:prstGeom>
                  <a:solidFill>
                    <a:srgbClr val="00000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264" name=""/>
                  <p:cNvGrpSpPr/>
                  <p:nvPr/>
                </p:nvGrpSpPr>
                <p:grpSpPr>
                  <a:xfrm>
                    <a:off x="273960" y="3938760"/>
                    <a:ext cx="3934440" cy="2465280"/>
                    <a:chOff x="273960" y="3938760"/>
                    <a:chExt cx="3934440" cy="2465280"/>
                  </a:xfrm>
                </p:grpSpPr>
                <p:pic>
                  <p:nvPicPr>
                    <p:cNvPr id="265" name="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1613520" y="5065560"/>
                      <a:ext cx="1369440" cy="133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266" name=""/>
                    <p:cNvGrpSpPr/>
                    <p:nvPr/>
                  </p:nvGrpSpPr>
                  <p:grpSpPr>
                    <a:xfrm>
                      <a:off x="273960" y="3938760"/>
                      <a:ext cx="3934440" cy="1282680"/>
                      <a:chOff x="273960" y="3938760"/>
                      <a:chExt cx="3934440" cy="1282680"/>
                    </a:xfrm>
                  </p:grpSpPr>
                  <p:grpSp>
                    <p:nvGrpSpPr>
                      <p:cNvPr id="267" name=""/>
                      <p:cNvGrpSpPr/>
                      <p:nvPr/>
                    </p:nvGrpSpPr>
                    <p:grpSpPr>
                      <a:xfrm>
                        <a:off x="273960" y="3938760"/>
                        <a:ext cx="3934440" cy="1282680"/>
                        <a:chOff x="273960" y="3938760"/>
                        <a:chExt cx="3934440" cy="1282680"/>
                      </a:xfrm>
                    </p:grpSpPr>
                    <p:pic>
                      <p:nvPicPr>
                        <p:cNvPr id="268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2855520" y="3938760"/>
                          <a:ext cx="1352880" cy="12463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269" name="" descr=""/>
                        <p:cNvPicPr/>
                        <p:nvPr/>
                      </p:nvPicPr>
                      <p:blipFill>
                        <a:blip r:embed="rId3"/>
                        <a:srcRect l="0" t="1522" r="0" b="2131"/>
                        <a:stretch/>
                      </p:blipFill>
                      <p:spPr>
                        <a:xfrm>
                          <a:off x="273960" y="3938760"/>
                          <a:ext cx="1429200" cy="12826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270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1581840" y="3938760"/>
                          <a:ext cx="1378440" cy="12463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  <p:cxnSp>
                    <p:nvCxnSpPr>
                      <p:cNvPr id="271" name=""/>
                      <p:cNvCxnSpPr/>
                      <p:nvPr/>
                    </p:nvCxnSpPr>
                    <p:spPr>
                      <a:xfrm>
                        <a:off x="1747080" y="5055840"/>
                        <a:ext cx="1040760" cy="108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ffff00"/>
                        </a:solidFill>
                        <a:miter/>
                        <a:headEnd len="med" type="arrow" w="med"/>
                        <a:tailEnd len="med" type="arrow" w="med"/>
                      </a:ln>
                    </p:spPr>
                  </p:cxnSp>
                  <p:cxnSp>
                    <p:nvCxnSpPr>
                      <p:cNvPr id="272" name=""/>
                      <p:cNvCxnSpPr/>
                      <p:nvPr/>
                    </p:nvCxnSpPr>
                    <p:spPr>
                      <a:xfrm>
                        <a:off x="1764720" y="4071240"/>
                        <a:ext cx="1080" cy="100260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ffff00"/>
                        </a:solidFill>
                        <a:miter/>
                        <a:headEnd len="med" type="arrow" w="med"/>
                        <a:tailEnd len="med" type="arrow" w="med"/>
                      </a:ln>
                    </p:spPr>
                  </p:cxnSp>
                  <p:sp>
                    <p:nvSpPr>
                      <p:cNvPr id="273" name=""/>
                      <p:cNvSpPr/>
                      <p:nvPr/>
                    </p:nvSpPr>
                    <p:spPr>
                      <a:xfrm>
                        <a:off x="1990440" y="4808880"/>
                        <a:ext cx="793800" cy="27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ffff00"/>
                            </a:solidFill>
                            <a:latin typeface="Calibri"/>
                          </a:rPr>
                          <a:t>156µm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74" name=""/>
                      <p:cNvSpPr/>
                      <p:nvPr/>
                    </p:nvSpPr>
                    <p:spPr>
                      <a:xfrm rot="16200000">
                        <a:off x="1289160" y="4280040"/>
                        <a:ext cx="795960" cy="27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ffff00"/>
                            </a:solidFill>
                            <a:latin typeface="Calibri"/>
                          </a:rPr>
                          <a:t>156µm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</p:grpSp>
            </p:grpSp>
            <p:sp>
              <p:nvSpPr>
                <p:cNvPr id="275" name=""/>
                <p:cNvSpPr/>
                <p:nvPr/>
              </p:nvSpPr>
              <p:spPr>
                <a:xfrm>
                  <a:off x="1416960" y="3860640"/>
                  <a:ext cx="371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Calibri"/>
                    </a:rPr>
                    <a:t>①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179280" y="3860640"/>
                  <a:ext cx="371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Calibri"/>
                    </a:rPr>
                    <a:t>③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453320" y="5127480"/>
                  <a:ext cx="371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Calibri"/>
                    </a:rPr>
                    <a:t>⑤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416960" y="2637000"/>
                  <a:ext cx="371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Calibri"/>
                    </a:rPr>
                    <a:t>④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2786040" y="3860640"/>
                  <a:ext cx="371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Calibri"/>
                    </a:rPr>
                    <a:t>②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280" name="" descr=""/>
              <p:cNvPicPr/>
              <p:nvPr/>
            </p:nvPicPr>
            <p:blipFill>
              <a:blip r:embed="rId5"/>
              <a:srcRect l="8525" t="5278" r="6469" b="6081"/>
              <a:stretch/>
            </p:blipFill>
            <p:spPr>
              <a:xfrm>
                <a:off x="1739880" y="2879640"/>
                <a:ext cx="1132560" cy="1133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1" name=""/>
            <p:cNvGrpSpPr/>
            <p:nvPr/>
          </p:nvGrpSpPr>
          <p:grpSpPr>
            <a:xfrm>
              <a:off x="1799640" y="2954160"/>
              <a:ext cx="986400" cy="974880"/>
              <a:chOff x="1799640" y="2954160"/>
              <a:chExt cx="986400" cy="974880"/>
            </a:xfrm>
          </p:grpSpPr>
          <p:sp>
            <p:nvSpPr>
              <p:cNvPr id="282" name=""/>
              <p:cNvSpPr/>
              <p:nvPr/>
            </p:nvSpPr>
            <p:spPr>
              <a:xfrm>
                <a:off x="1799640" y="2954160"/>
                <a:ext cx="986400" cy="1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2776680" y="2954160"/>
                <a:ext cx="0" cy="9748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1799640" y="3922560"/>
                <a:ext cx="97848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799640" y="2963880"/>
                <a:ext cx="0" cy="9651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1774080" y="4073400"/>
              <a:ext cx="1007280" cy="974880"/>
              <a:chOff x="1774080" y="4073400"/>
              <a:chExt cx="1007280" cy="974880"/>
            </a:xfrm>
          </p:grpSpPr>
          <p:sp>
            <p:nvSpPr>
              <p:cNvPr id="287" name=""/>
              <p:cNvSpPr/>
              <p:nvPr/>
            </p:nvSpPr>
            <p:spPr>
              <a:xfrm>
                <a:off x="1774080" y="4073400"/>
                <a:ext cx="10040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2781360" y="4073400"/>
                <a:ext cx="0" cy="9748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3030480" y="4087800"/>
              <a:ext cx="975960" cy="976320"/>
              <a:chOff x="3030480" y="4087800"/>
              <a:chExt cx="975960" cy="976320"/>
            </a:xfrm>
          </p:grpSpPr>
          <p:sp>
            <p:nvSpPr>
              <p:cNvPr id="290" name=""/>
              <p:cNvSpPr/>
              <p:nvPr/>
            </p:nvSpPr>
            <p:spPr>
              <a:xfrm>
                <a:off x="3043080" y="4095720"/>
                <a:ext cx="96120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V="1">
                <a:off x="4006440" y="4095720"/>
                <a:ext cx="0" cy="9511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>
                <a:off x="3030480" y="5046840"/>
                <a:ext cx="973800" cy="46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030840" y="4087800"/>
                <a:ext cx="0" cy="9763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1812240" y="5219640"/>
              <a:ext cx="970560" cy="976320"/>
              <a:chOff x="1812240" y="5219640"/>
              <a:chExt cx="970560" cy="976320"/>
            </a:xfrm>
          </p:grpSpPr>
          <p:sp>
            <p:nvSpPr>
              <p:cNvPr id="295" name=""/>
              <p:cNvSpPr/>
              <p:nvPr/>
            </p:nvSpPr>
            <p:spPr>
              <a:xfrm>
                <a:off x="1812240" y="5235480"/>
                <a:ext cx="9687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2778120" y="5235120"/>
                <a:ext cx="4680" cy="955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1815120" y="6191280"/>
                <a:ext cx="9673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812240" y="5219640"/>
                <a:ext cx="0" cy="9763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479160" y="4076280"/>
              <a:ext cx="999000" cy="984600"/>
              <a:chOff x="479160" y="4076280"/>
              <a:chExt cx="999000" cy="984600"/>
            </a:xfrm>
          </p:grpSpPr>
          <p:sp>
            <p:nvSpPr>
              <p:cNvPr id="300" name=""/>
              <p:cNvSpPr/>
              <p:nvPr/>
            </p:nvSpPr>
            <p:spPr>
              <a:xfrm flipV="1">
                <a:off x="491400" y="4083120"/>
                <a:ext cx="986760" cy="79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1470600" y="4076280"/>
                <a:ext cx="0" cy="9702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flipV="1">
                <a:off x="479160" y="5051520"/>
                <a:ext cx="991440" cy="93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79160" y="4083120"/>
                <a:ext cx="0" cy="9763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04" name=""/>
          <p:cNvSpPr/>
          <p:nvPr/>
        </p:nvSpPr>
        <p:spPr>
          <a:xfrm>
            <a:off x="682560" y="260280"/>
            <a:ext cx="87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cus adjust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4930920" y="4221000"/>
            <a:ext cx="3376440" cy="2202840"/>
            <a:chOff x="4930920" y="4221000"/>
            <a:chExt cx="3376440" cy="2202840"/>
          </a:xfrm>
        </p:grpSpPr>
        <p:sp>
          <p:nvSpPr>
            <p:cNvPr id="306" name=""/>
            <p:cNvSpPr/>
            <p:nvPr/>
          </p:nvSpPr>
          <p:spPr>
            <a:xfrm>
              <a:off x="4930920" y="4221000"/>
              <a:ext cx="3220920" cy="18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pot size (FWHM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①</a:t>
              </a: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　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enter : 48.9µm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②</a:t>
              </a: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　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ight    : 66.3µm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③</a:t>
              </a: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　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Left      : 69.6µm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④</a:t>
              </a: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　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op       : 97.4µm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⑤</a:t>
              </a: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　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Bottom: 68.3µm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086440" y="6055560"/>
              <a:ext cx="322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(Requirement: 156µm 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3203640" y="1116000"/>
            <a:ext cx="5853600" cy="3032640"/>
            <a:chOff x="3203640" y="1116000"/>
            <a:chExt cx="5853600" cy="3032640"/>
          </a:xfrm>
        </p:grpSpPr>
        <p:grpSp>
          <p:nvGrpSpPr>
            <p:cNvPr id="309" name=""/>
            <p:cNvGrpSpPr/>
            <p:nvPr/>
          </p:nvGrpSpPr>
          <p:grpSpPr>
            <a:xfrm>
              <a:off x="3203640" y="1116000"/>
              <a:ext cx="5853600" cy="3032640"/>
              <a:chOff x="3203640" y="1116000"/>
              <a:chExt cx="5853600" cy="3032640"/>
            </a:xfrm>
          </p:grpSpPr>
          <p:grpSp>
            <p:nvGrpSpPr>
              <p:cNvPr id="310" name=""/>
              <p:cNvGrpSpPr/>
              <p:nvPr/>
            </p:nvGrpSpPr>
            <p:grpSpPr>
              <a:xfrm>
                <a:off x="3244320" y="1116000"/>
                <a:ext cx="5812920" cy="3032640"/>
                <a:chOff x="3244320" y="1116000"/>
                <a:chExt cx="5812920" cy="3032640"/>
              </a:xfrm>
            </p:grpSpPr>
            <p:grpSp>
              <p:nvGrpSpPr>
                <p:cNvPr id="311" name=""/>
                <p:cNvGrpSpPr/>
                <p:nvPr/>
              </p:nvGrpSpPr>
              <p:grpSpPr>
                <a:xfrm>
                  <a:off x="3244320" y="1116000"/>
                  <a:ext cx="5812920" cy="3032640"/>
                  <a:chOff x="3244320" y="1116000"/>
                  <a:chExt cx="5812920" cy="303264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>
                    <a:off x="7571520" y="3841560"/>
                    <a:ext cx="14608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Calibri"/>
                      </a:rPr>
                      <a:t>Focus adjustment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3244320" y="1116000"/>
                    <a:ext cx="5812920" cy="2728440"/>
                    <a:chOff x="3244320" y="1116000"/>
                    <a:chExt cx="5812920" cy="2728440"/>
                  </a:xfrm>
                </p:grpSpPr>
                <p:pic>
                  <p:nvPicPr>
                    <p:cNvPr id="31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244320" y="1116000"/>
                      <a:ext cx="5626800" cy="272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15" name=""/>
                    <p:cNvSpPr/>
                    <p:nvPr/>
                  </p:nvSpPr>
                  <p:spPr>
                    <a:xfrm>
                      <a:off x="5745960" y="2819160"/>
                      <a:ext cx="13233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Telesc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cxnSp>
                  <p:nvCxnSpPr>
                    <p:cNvPr id="316" name=""/>
                    <p:cNvCxnSpPr>
                      <a:stCxn id="315" idx="1"/>
                    </p:cNvCxnSpPr>
                    <p:nvPr/>
                  </p:nvCxnSpPr>
                  <p:spPr>
                    <a:xfrm flipH="1" flipV="1">
                      <a:off x="5672160" y="2606760"/>
                      <a:ext cx="73800" cy="394920"/>
                    </a:xfrm>
                    <a:prstGeom prst="straightConnector1">
                      <a:avLst/>
                    </a:prstGeom>
                    <a:ln w="2844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</p:cxnSp>
                <p:cxnSp>
                  <p:nvCxnSpPr>
                    <p:cNvPr id="317" name=""/>
                    <p:cNvCxnSpPr/>
                    <p:nvPr/>
                  </p:nvCxnSpPr>
                  <p:spPr>
                    <a:xfrm flipV="1">
                      <a:off x="8541360" y="1826280"/>
                      <a:ext cx="1080" cy="356400"/>
                    </a:xfrm>
                    <a:prstGeom prst="straightConnector1">
                      <a:avLst/>
                    </a:prstGeom>
                    <a:ln w="2844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</p:cxnSp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7733520" y="2103120"/>
                      <a:ext cx="132372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Lamp(visible ligh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4052880" y="1542240"/>
                      <a:ext cx="893880" cy="78192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2556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4052880" y="2324160"/>
                      <a:ext cx="1247400" cy="642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LA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(lens tub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321" name=""/>
                <p:cNvGrpSpPr/>
                <p:nvPr/>
              </p:nvGrpSpPr>
              <p:grpSpPr>
                <a:xfrm>
                  <a:off x="5502960" y="1494000"/>
                  <a:ext cx="2076480" cy="689400"/>
                  <a:chOff x="5502960" y="1494000"/>
                  <a:chExt cx="2076480" cy="68940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 rot="21360000">
                    <a:off x="5519520" y="1564560"/>
                    <a:ext cx="2043360" cy="548280"/>
                  </a:xfrm>
                  <a:prstGeom prst="pie">
                    <a:avLst/>
                  </a:prstGeom>
                  <a:solidFill>
                    <a:srgbClr val="f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rot="21360000">
                    <a:off x="5645880" y="1663560"/>
                    <a:ext cx="16938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Calibri"/>
                      </a:rPr>
                      <a:t>Collimated light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324" name=""/>
              <p:cNvSpPr/>
              <p:nvPr/>
            </p:nvSpPr>
            <p:spPr>
              <a:xfrm>
                <a:off x="3203640" y="2954160"/>
                <a:ext cx="196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Calibri"/>
                  </a:rPr>
                  <a:t>Camera(Sony α7)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325" name=""/>
            <p:cNvCxnSpPr/>
            <p:nvPr/>
          </p:nvCxnSpPr>
          <p:spPr>
            <a:xfrm flipV="1">
              <a:off x="3684240" y="2333880"/>
              <a:ext cx="207000" cy="74736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</p:grpSp>
      <p:pic>
        <p:nvPicPr>
          <p:cNvPr id="326" name="" descr=""/>
          <p:cNvPicPr/>
          <p:nvPr/>
        </p:nvPicPr>
        <p:blipFill>
          <a:blip r:embed="rId7"/>
          <a:stretch/>
        </p:blipFill>
        <p:spPr>
          <a:xfrm flipH="1">
            <a:off x="674640" y="1116000"/>
            <a:ext cx="2054160" cy="1281240"/>
          </a:xfrm>
          <a:prstGeom prst="rect">
            <a:avLst/>
          </a:prstGeom>
          <a:ln w="0">
            <a:noFill/>
          </a:ln>
        </p:spPr>
      </p:pic>
      <p:cxnSp>
        <p:nvCxnSpPr>
          <p:cNvPr id="327" name=""/>
          <p:cNvCxnSpPr/>
          <p:nvPr/>
        </p:nvCxnSpPr>
        <p:spPr>
          <a:xfrm>
            <a:off x="2774520" y="1606320"/>
            <a:ext cx="1508760" cy="2228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28" name=""/>
          <p:cNvSpPr/>
          <p:nvPr/>
        </p:nvSpPr>
        <p:spPr>
          <a:xfrm>
            <a:off x="7092000" y="4676760"/>
            <a:ext cx="306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 temp.(60 degre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no prob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682560" y="5724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Schedule od develop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08000" y="779400"/>
            <a:ext cx="7416720" cy="6558120"/>
            <a:chOff x="108000" y="779400"/>
            <a:chExt cx="7416720" cy="6558120"/>
          </a:xfrm>
        </p:grpSpPr>
        <p:sp>
          <p:nvSpPr>
            <p:cNvPr id="331" name=""/>
            <p:cNvSpPr/>
            <p:nvPr/>
          </p:nvSpPr>
          <p:spPr>
            <a:xfrm>
              <a:off x="108000" y="779400"/>
              <a:ext cx="7416720" cy="6558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小塚ゴシック Pro L"/>
                  <a:ea typeface="小塚ゴシック Pro L"/>
                </a:rPr>
                <a:t>201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Oct:</a:t>
              </a: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Start, concept desig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Nov:</a:t>
              </a: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Design and testing of support structu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Dec: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Vibration and impact testing of support structu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	</a:t>
              </a:r>
              <a:r>
                <a:rPr b="0" lang="zh-CN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　</a:t>
              </a: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(adhesion strength, MCP impact level reduction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小塚ゴシック Pro L"/>
                  <a:ea typeface="小塚ゴシック Pro L"/>
                </a:rPr>
                <a:t>201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Jan:</a:t>
              </a: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Final spec. confirmed, PM fabrication star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Feb:</a:t>
              </a: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              Temp. testing of adhesion points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Mar:  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PM cpmpleted and focus testin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completion of FM sensor(MCP+RAE) and support structure of read circui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Apr:                        PM adhes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May:           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　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FM tube structure completed and focus testing, QT vibration and impact testing, temp. testing (focus)</a:t>
              </a: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小塚ゴシック Pro L"/>
                  <a:ea typeface="小塚ゴシック Pro L"/>
                </a:rPr>
                <a:t>             </a:t>
              </a:r>
              <a:r>
                <a:rPr b="0" lang="zh-CN" sz="2000" spc="-1" strike="noStrike">
                  <a:solidFill>
                    <a:srgbClr val="ff0000"/>
                  </a:solidFill>
                  <a:latin typeface="小塚ゴシック Pro L"/>
                  <a:ea typeface="小塚ゴシック Pro L"/>
                </a:rPr>
                <a:t>　            </a:t>
              </a:r>
              <a:r>
                <a:rPr b="0" lang="en-US" sz="2000" spc="-1" strike="noStrike">
                  <a:solidFill>
                    <a:srgbClr val="ff0000"/>
                  </a:solidFill>
                  <a:latin typeface="小塚ゴシック Pro L"/>
                  <a:ea typeface="小塚ゴシック Pro L"/>
                </a:rPr>
                <a:t>	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Jun: 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FM vibration test, thermal vacuum test, attaching to the prob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Dec: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launch</a:t>
              </a:r>
              <a:r>
                <a:rPr b="0" lang="zh-CN" sz="24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　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08000" y="4951440"/>
              <a:ext cx="7416720" cy="0"/>
            </a:xfrm>
            <a:prstGeom prst="line">
              <a:avLst/>
            </a:prstGeom>
            <a:ln w="9360">
              <a:solidFill>
                <a:srgbClr val="4a7eb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6946920" y="1484280"/>
            <a:ext cx="2066760" cy="12794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7280280" y="4365720"/>
            <a:ext cx="1733400" cy="108108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7286760" y="2852640"/>
            <a:ext cx="1590480" cy="142092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4"/>
          <a:stretch/>
        </p:blipFill>
        <p:spPr>
          <a:xfrm>
            <a:off x="7095960" y="279360"/>
            <a:ext cx="1968840" cy="1230480"/>
          </a:xfrm>
          <a:prstGeom prst="rect">
            <a:avLst/>
          </a:prstGeom>
          <a:ln w="0">
            <a:noFill/>
          </a:ln>
        </p:spPr>
      </p:pic>
      <p:grpSp>
        <p:nvGrpSpPr>
          <p:cNvPr id="337" name=""/>
          <p:cNvGrpSpPr/>
          <p:nvPr/>
        </p:nvGrpSpPr>
        <p:grpSpPr>
          <a:xfrm>
            <a:off x="7667640" y="5445000"/>
            <a:ext cx="1390320" cy="1521360"/>
            <a:chOff x="7667640" y="5445000"/>
            <a:chExt cx="1390320" cy="1521360"/>
          </a:xfrm>
        </p:grpSpPr>
        <p:pic>
          <p:nvPicPr>
            <p:cNvPr id="338" name="" descr=""/>
            <p:cNvPicPr/>
            <p:nvPr/>
          </p:nvPicPr>
          <p:blipFill>
            <a:blip r:embed="rId5"/>
            <a:srcRect l="0" t="0" r="-1726" b="14694"/>
            <a:stretch/>
          </p:blipFill>
          <p:spPr>
            <a:xfrm>
              <a:off x="7667640" y="5445000"/>
              <a:ext cx="1078200" cy="129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8460360" y="6507360"/>
              <a:ext cx="597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[JAXA]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3635280" y="616428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budget: yen 22 mill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-252360" y="25560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　</a:t>
            </a:r>
            <a:r>
              <a:rPr b="0" lang="en-US" sz="4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"/>
          <p:cNvSpPr/>
          <p:nvPr/>
        </p:nvSpPr>
        <p:spPr>
          <a:xfrm>
            <a:off x="466560" y="206064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・</a:t>
            </a: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Geocorona distribution in wide range </a:t>
            </a:r>
            <a:r>
              <a:rPr b="0" lang="en-US" sz="2400" spc="-1" strike="noStrike">
                <a:solidFill>
                  <a:srgbClr val="ff0000"/>
                </a:solidFill>
                <a:latin typeface="小塚ゴシック Pro L"/>
                <a:ea typeface="小塚ゴシック Pro L"/>
              </a:rPr>
              <a:t>(~8Re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小塚ゴシック Pro L"/>
                <a:ea typeface="小塚ゴシック Pro L"/>
              </a:rPr>
              <a:t>20Re) </a:t>
            </a: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unobtainable by earthbound satelli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"/>
          <p:cNvSpPr/>
          <p:nvPr/>
        </p:nvSpPr>
        <p:spPr>
          <a:xfrm>
            <a:off x="466560" y="3057480"/>
            <a:ext cx="86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・</a:t>
            </a: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Global distribution with </a:t>
            </a:r>
            <a:r>
              <a:rPr b="0" lang="en-US" sz="2400" spc="-1" strike="noStrike">
                <a:solidFill>
                  <a:srgbClr val="ff0000"/>
                </a:solidFill>
                <a:latin typeface="小塚ゴシック Pro L"/>
                <a:ea typeface="小塚ゴシック Pro L"/>
              </a:rPr>
              <a:t>higher temporal resolution</a:t>
            </a: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小塚ゴシック Pro L"/>
                <a:ea typeface="小塚ゴシック Pro L"/>
              </a:rPr>
              <a:t>(12h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小塚ゴシック Pro L"/>
                <a:ea typeface="小塚ゴシック Pro L"/>
              </a:rPr>
              <a:t>2h)</a:t>
            </a: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 unobtainable by earthbound satelli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"/>
          <p:cNvSpPr/>
          <p:nvPr/>
        </p:nvSpPr>
        <p:spPr>
          <a:xfrm>
            <a:off x="466560" y="4071960"/>
            <a:ext cx="828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・</a:t>
            </a: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Low cost and short period of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(educational programme for students and myself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"/>
          <p:cNvSpPr/>
          <p:nvPr/>
        </p:nvSpPr>
        <p:spPr>
          <a:xfrm>
            <a:off x="466560" y="1063800"/>
            <a:ext cx="828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・</a:t>
            </a: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Hydrogen Ryaman alpha line by PROCYON imaging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"/>
          <p:cNvSpPr/>
          <p:nvPr/>
        </p:nvSpPr>
        <p:spPr>
          <a:xfrm>
            <a:off x="108000" y="5084640"/>
            <a:ext cx="882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[annecdote] Sputonik with a dog on board was, at that time, said to be very careless and the dog died. Wether or not that project was a great success is uncertain, but it certainly did contribute towards  later space program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96720" y="1989000"/>
            <a:ext cx="518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小塚ゴシック Pro L"/>
                <a:ea typeface="小塚ゴシック Pro L"/>
              </a:rPr>
              <a:t>PROCY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mass</a:t>
            </a:r>
            <a:r>
              <a:rPr b="0" lang="zh-CN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approx. 59k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dimension</a:t>
            </a:r>
            <a:r>
              <a:rPr b="0" lang="zh-CN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H630×W550×D550m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to be launched in December 20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348000" y="1855800"/>
            <a:ext cx="2736720" cy="1431720"/>
            <a:chOff x="3348000" y="1855800"/>
            <a:chExt cx="2736720" cy="14317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3348000" y="1855800"/>
              <a:ext cx="2736720" cy="14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5398920" y="301104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[JAXA]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181080" y="909720"/>
            <a:ext cx="85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・</a:t>
            </a:r>
            <a:r>
              <a:rPr b="0" lang="en-US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additional payload on Hayabusa 2 to be part of PROCYON, ultrasmall deepspace pro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62000" y="316080"/>
            <a:ext cx="861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(Hydrogen) Lyman Alpha Imaging Came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162000" y="4705200"/>
            <a:ext cx="887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・</a:t>
            </a:r>
            <a:r>
              <a:rPr b="0" lang="en-US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1-2 weeks observation after launch  </a:t>
            </a:r>
            <a:r>
              <a:rPr b="0" lang="en-US" sz="2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(spatial resolution &lt;0.4R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325440" y="5372280"/>
            <a:ext cx="821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⇒</a:t>
            </a:r>
            <a:r>
              <a:rPr b="0" lang="en-US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imaging wide area distribution of geocorona (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field of view 25-300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325440" y="6164280"/>
            <a:ext cx="7921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⇒</a:t>
            </a:r>
            <a:r>
              <a:rPr b="0" lang="en-US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further 3 months observation expected (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spatial resolution</a:t>
            </a:r>
            <a:r>
              <a:rPr b="0" lang="zh-CN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&lt;2.4Re</a:t>
            </a:r>
            <a:r>
              <a:rPr b="0" lang="zh-CN" sz="2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384960" y="2111400"/>
            <a:ext cx="2471760" cy="2321280"/>
            <a:chOff x="6384960" y="2111400"/>
            <a:chExt cx="2471760" cy="2321280"/>
          </a:xfrm>
        </p:grpSpPr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6384960" y="2111400"/>
              <a:ext cx="2471760" cy="19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7655040" y="3973680"/>
              <a:ext cx="992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PROCYON</a:t>
              </a:r>
              <a:r>
                <a:rPr b="0" lang="zh-CN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軌道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54160" y="1701720"/>
            <a:ext cx="57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小塚ゴシック Pro L"/>
                <a:ea typeface="小塚ゴシック Pro L"/>
              </a:rPr>
              <a:t>PR</a:t>
            </a:r>
            <a:r>
              <a:rPr b="0" lang="en-US" sz="1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oximate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小塚ゴシック Pro L"/>
                <a:ea typeface="小塚ゴシック Pro L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bject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小塚ゴシック Pro L"/>
                <a:ea typeface="小塚ゴシック Pro 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lose fl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小塚ゴシック Pro L"/>
                <a:ea typeface="小塚ゴシック Pro L"/>
              </a:rPr>
              <a:t>Y</a:t>
            </a:r>
            <a:r>
              <a:rPr b="0" lang="en-US" sz="1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by with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小塚ゴシック Pro L"/>
                <a:ea typeface="小塚ゴシック Pro L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ptical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小塚ゴシック Pro L"/>
                <a:ea typeface="小塚ゴシック Pro L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avig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549440" y="0"/>
            <a:ext cx="547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　</a:t>
            </a:r>
            <a:r>
              <a:rPr b="0" lang="en-US" sz="4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What is geocoro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541440" y="549360"/>
            <a:ext cx="92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Exosphere</a:t>
            </a:r>
            <a:r>
              <a:rPr b="0" lang="zh-CN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Outermost layer of Earth atmosphere (altitude &gt;400k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1333440" y="1413000"/>
            <a:ext cx="56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・</a:t>
            </a:r>
            <a:r>
              <a:rPr b="0" lang="en-US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main components</a:t>
            </a:r>
            <a:r>
              <a:rPr b="0" lang="zh-CN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hydrogen and helium 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757080" y="213372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selective scattering of specific solar radiation of ultraviolet l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068640"/>
            <a:ext cx="480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⇒</a:t>
            </a:r>
            <a:r>
              <a:rPr b="0" lang="en-US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ultraviolet glow engulfing whole Ear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4005360"/>
            <a:ext cx="748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hydrogen Ryman alpha line (121.6nm) is the brigh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1187280" y="48690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小塚ゴシック Pro L"/>
                <a:ea typeface="小塚ゴシック Pro L"/>
              </a:rPr>
              <a:t>太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5334840" y="3068640"/>
            <a:ext cx="22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geocoro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413080" y="4653000"/>
            <a:ext cx="4176720" cy="2634120"/>
            <a:chOff x="2413080" y="4653000"/>
            <a:chExt cx="4176720" cy="2634120"/>
          </a:xfrm>
        </p:grpSpPr>
        <p:pic>
          <p:nvPicPr>
            <p:cNvPr id="73" name="" descr=""/>
            <p:cNvPicPr/>
            <p:nvPr/>
          </p:nvPicPr>
          <p:blipFill>
            <a:blip r:embed="rId1"/>
            <a:stretch/>
          </p:blipFill>
          <p:spPr>
            <a:xfrm rot="5400000">
              <a:off x="3228840" y="4252320"/>
              <a:ext cx="2177280" cy="297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2413080" y="6858360"/>
              <a:ext cx="41767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geocorona distribution seen by Apollo 16 [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Carruthers et al.</a:t>
              </a:r>
              <a:r>
                <a:rPr b="0" lang="en-US" sz="11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, 1976]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34920" y="836640"/>
            <a:ext cx="5761080" cy="3702960"/>
            <a:chOff x="34920" y="836640"/>
            <a:chExt cx="5761080" cy="3702960"/>
          </a:xfrm>
        </p:grpSpPr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>
              <a:off x="42840" y="836640"/>
              <a:ext cx="5565960" cy="320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34920" y="4080600"/>
              <a:ext cx="5761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Hydrogen atom density contour</a:t>
              </a:r>
              <a:r>
                <a:rPr b="0" lang="zh-CN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：</a:t>
              </a:r>
              <a:r>
                <a:rPr b="0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equatorial (right) ,meridian (left) [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Bailey and Gruntman</a:t>
              </a:r>
              <a:r>
                <a:rPr b="0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, 2011]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25440" y="6380280"/>
            <a:ext cx="82771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Non-symmetry in day/night, N/S, morning/eve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-34920" y="4437000"/>
            <a:ext cx="58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TWINS borne LAD(Lyman Alpha Detector) observ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181080" y="4797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higher density in day side than night side in lower altitu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5608800" y="907920"/>
            <a:ext cx="3716280" cy="4860000"/>
            <a:chOff x="5608800" y="907920"/>
            <a:chExt cx="3716280" cy="4860000"/>
          </a:xfrm>
        </p:grpSpPr>
        <p:pic>
          <p:nvPicPr>
            <p:cNvPr id="82" name="" descr=""/>
            <p:cNvPicPr/>
            <p:nvPr/>
          </p:nvPicPr>
          <p:blipFill>
            <a:blip r:embed="rId2"/>
            <a:stretch/>
          </p:blipFill>
          <p:spPr>
            <a:xfrm>
              <a:off x="5608800" y="907920"/>
              <a:ext cx="3536640" cy="42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6951600" y="5126400"/>
              <a:ext cx="2373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angular changes of hydrogen atom density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[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Bailey and Gruntman</a:t>
              </a:r>
              <a:r>
                <a:rPr b="0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, 2011]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-106200" y="5445000"/>
            <a:ext cx="66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similar  densities in very high altitude bet. day side and night s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-506880" y="5948280"/>
            <a:ext cx="54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higher density in evening side than morning s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989240" y="5948280"/>
            <a:ext cx="43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higher density in southern hemisp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332000" y="836640"/>
            <a:ext cx="612360" cy="2315160"/>
            <a:chOff x="1332000" y="836640"/>
            <a:chExt cx="612360" cy="2315160"/>
          </a:xfrm>
        </p:grpSpPr>
        <p:sp>
          <p:nvSpPr>
            <p:cNvPr id="88" name=""/>
            <p:cNvSpPr/>
            <p:nvPr/>
          </p:nvSpPr>
          <p:spPr>
            <a:xfrm>
              <a:off x="1691280" y="2448000"/>
              <a:ext cx="253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小塚ゴシック Pro L"/>
                  <a:ea typeface="小塚ゴシック Pro 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32000" y="836640"/>
              <a:ext cx="288000" cy="703800"/>
            </a:xfrm>
            <a:prstGeom prst="rect">
              <a:avLst/>
            </a:prstGeom>
            <a:solidFill>
              <a:srgbClr val="ffffff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小塚ゴシック Pro L"/>
                  <a:ea typeface="小塚ゴシック Pro 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125280" y="1700280"/>
            <a:ext cx="2718000" cy="771840"/>
            <a:chOff x="125280" y="1700280"/>
            <a:chExt cx="2718000" cy="771840"/>
          </a:xfrm>
        </p:grpSpPr>
        <p:sp>
          <p:nvSpPr>
            <p:cNvPr id="91" name=""/>
            <p:cNvSpPr/>
            <p:nvPr/>
          </p:nvSpPr>
          <p:spPr>
            <a:xfrm>
              <a:off x="2519280" y="1700280"/>
              <a:ext cx="324000" cy="703800"/>
            </a:xfrm>
            <a:prstGeom prst="rect">
              <a:avLst/>
            </a:prstGeom>
            <a:solidFill>
              <a:srgbClr val="ffffff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小塚ゴシック Pro L"/>
                  <a:ea typeface="小塚ゴシック Pro 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5280" y="1768320"/>
              <a:ext cx="287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小塚ゴシック Pro L"/>
                  <a:ea typeface="小塚ゴシック Pro 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914560" y="1876320"/>
            <a:ext cx="2702160" cy="720360"/>
            <a:chOff x="2914560" y="1876320"/>
            <a:chExt cx="2702160" cy="720360"/>
          </a:xfrm>
        </p:grpSpPr>
        <p:sp>
          <p:nvSpPr>
            <p:cNvPr id="94" name=""/>
            <p:cNvSpPr/>
            <p:nvPr/>
          </p:nvSpPr>
          <p:spPr>
            <a:xfrm>
              <a:off x="5292720" y="1892880"/>
              <a:ext cx="324000" cy="703800"/>
            </a:xfrm>
            <a:prstGeom prst="rect">
              <a:avLst/>
            </a:prstGeom>
            <a:solidFill>
              <a:srgbClr val="ffffff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小塚ゴシック Pro L"/>
                  <a:ea typeface="小塚ゴシック Pro 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4560" y="1876320"/>
              <a:ext cx="287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小塚ゴシック Pro L"/>
                  <a:ea typeface="小塚ゴシック Pro 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211640" y="868320"/>
            <a:ext cx="612720" cy="2285640"/>
            <a:chOff x="4211640" y="868320"/>
            <a:chExt cx="612720" cy="2285640"/>
          </a:xfrm>
        </p:grpSpPr>
        <p:sp>
          <p:nvSpPr>
            <p:cNvPr id="97" name=""/>
            <p:cNvSpPr/>
            <p:nvPr/>
          </p:nvSpPr>
          <p:spPr>
            <a:xfrm>
              <a:off x="4500720" y="2450160"/>
              <a:ext cx="323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小塚ゴシック Pro L"/>
                  <a:ea typeface="小塚ゴシック Pro 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211640" y="868320"/>
              <a:ext cx="289080" cy="703800"/>
            </a:xfrm>
            <a:prstGeom prst="rect">
              <a:avLst/>
            </a:prstGeom>
            <a:solidFill>
              <a:srgbClr val="ffffff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小塚ゴシック Pro L"/>
                  <a:ea typeface="小塚ゴシック Pro 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755640" y="-98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　</a:t>
            </a:r>
            <a:r>
              <a:rPr b="0" lang="en-US" sz="4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Geocorona spatial distrib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28720" y="262080"/>
            <a:ext cx="691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　</a:t>
            </a:r>
            <a:r>
              <a:rPr b="0" lang="en-US" sz="4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Atomic orbits in exosphe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96720" y="981000"/>
            <a:ext cx="8065440" cy="947160"/>
            <a:chOff x="396720" y="981000"/>
            <a:chExt cx="8065440" cy="947160"/>
          </a:xfrm>
        </p:grpSpPr>
        <p:grpSp>
          <p:nvGrpSpPr>
            <p:cNvPr id="102" name=""/>
            <p:cNvGrpSpPr/>
            <p:nvPr/>
          </p:nvGrpSpPr>
          <p:grpSpPr>
            <a:xfrm>
              <a:off x="504720" y="981000"/>
              <a:ext cx="7957440" cy="947160"/>
              <a:chOff x="504720" y="981000"/>
              <a:chExt cx="7957440" cy="947160"/>
            </a:xfrm>
          </p:grpSpPr>
          <p:sp>
            <p:nvSpPr>
              <p:cNvPr id="103" name=""/>
              <p:cNvSpPr/>
              <p:nvPr/>
            </p:nvSpPr>
            <p:spPr>
              <a:xfrm>
                <a:off x="504720" y="981000"/>
                <a:ext cx="79574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小塚ゴシック Pro L"/>
                    <a:ea typeface="小塚ゴシック Pro L"/>
                  </a:rPr>
                  <a:t>Exobase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小塚ゴシック Pro L"/>
                    <a:ea typeface="小塚ゴシック Pro L"/>
                  </a:rPr>
                  <a:t>：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小塚ゴシック Pro L"/>
                    <a:ea typeface="小塚ゴシック Pro L"/>
                  </a:rPr>
                  <a:t>lowest altitude where atoms do not collide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583600" y="1389600"/>
                <a:ext cx="237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小塚ゴシック Pro L"/>
                    <a:ea typeface="小塚ゴシック Pro L"/>
                  </a:rPr>
                  <a:t>(400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小塚ゴシック Pro L"/>
                    <a:ea typeface="小塚ゴシック Pro L"/>
                  </a:rPr>
                  <a:t>〜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小塚ゴシック Pro L"/>
                    <a:ea typeface="小塚ゴシック Pro L"/>
                  </a:rPr>
                  <a:t>800km)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396720" y="1415160"/>
              <a:ext cx="237852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541440" y="191772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3 main atomic orbits in exosp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-3240" y="2965320"/>
            <a:ext cx="9109080" cy="131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① </a:t>
            </a:r>
            <a:r>
              <a:rPr b="0" lang="en-US" sz="2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ballistic orbit : atoms shoot out of exobase at less than escape velocity and come back in</a:t>
            </a:r>
            <a:r>
              <a:rPr b="0" lang="zh-CN" sz="2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② </a:t>
            </a:r>
            <a:r>
              <a:rPr b="0" lang="en-US" sz="2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escape orbit : atoms shoot out of exosphere and are l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③ </a:t>
            </a:r>
            <a:r>
              <a:rPr b="0" lang="en-US" sz="2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satellite orbit : scattered within closed orb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108000" y="5065560"/>
            <a:ext cx="554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in lower altitude ballistic atom are domina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⇒</a:t>
            </a:r>
            <a:r>
              <a:rPr b="0" lang="en-US" sz="2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at higher altitude satellite orbit becomes domina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254160" y="6164280"/>
            <a:ext cx="734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at very high altitude escape ato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become domina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699160" y="4927680"/>
            <a:ext cx="3287520" cy="1743120"/>
            <a:chOff x="5699160" y="4927680"/>
            <a:chExt cx="3287520" cy="1743120"/>
          </a:xfrm>
        </p:grpSpPr>
        <p:grpSp>
          <p:nvGrpSpPr>
            <p:cNvPr id="111" name=""/>
            <p:cNvGrpSpPr/>
            <p:nvPr/>
          </p:nvGrpSpPr>
          <p:grpSpPr>
            <a:xfrm>
              <a:off x="5699160" y="4940280"/>
              <a:ext cx="3287520" cy="1730520"/>
              <a:chOff x="5699160" y="4940280"/>
              <a:chExt cx="3287520" cy="1730520"/>
            </a:xfrm>
          </p:grpSpPr>
          <p:pic>
            <p:nvPicPr>
              <p:cNvPr id="11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699160" y="4940280"/>
                <a:ext cx="3287520" cy="17305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cxnSp>
            <p:nvCxnSpPr>
              <p:cNvPr id="113" name=""/>
              <p:cNvCxnSpPr/>
              <p:nvPr/>
            </p:nvCxnSpPr>
            <p:spPr>
              <a:xfrm>
                <a:off x="7029000" y="5966640"/>
                <a:ext cx="859320" cy="21780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cxnSp>
          <p:nvCxnSpPr>
            <p:cNvPr id="114" name=""/>
            <p:cNvCxnSpPr/>
            <p:nvPr/>
          </p:nvCxnSpPr>
          <p:spPr>
            <a:xfrm flipV="1">
              <a:off x="6298920" y="5300280"/>
              <a:ext cx="361080" cy="28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6299280" y="5543640"/>
              <a:ext cx="46080" cy="46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94640" y="5518080"/>
              <a:ext cx="46080" cy="46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83280" y="5419800"/>
              <a:ext cx="23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③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00960" y="5311800"/>
              <a:ext cx="23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①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19" name=""/>
            <p:cNvCxnSpPr/>
            <p:nvPr/>
          </p:nvCxnSpPr>
          <p:spPr>
            <a:xfrm flipV="1">
              <a:off x="7235640" y="4939560"/>
              <a:ext cx="470520" cy="97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20" name=""/>
            <p:cNvSpPr/>
            <p:nvPr/>
          </p:nvSpPr>
          <p:spPr>
            <a:xfrm>
              <a:off x="7451640" y="5388120"/>
              <a:ext cx="46080" cy="45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21560" y="4927680"/>
              <a:ext cx="23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②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767640" y="6289560"/>
            <a:ext cx="12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小塚ゴシック Pro L"/>
                <a:ea typeface="小塚ゴシック Pro L"/>
              </a:rPr>
              <a:t>exoba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28720" y="46080"/>
            <a:ext cx="6985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Magnetic storm and number of hydrogen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-36360" y="1197000"/>
            <a:ext cx="6769080" cy="3425760"/>
            <a:chOff x="-36360" y="1197000"/>
            <a:chExt cx="6769080" cy="342576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34920" y="1197000"/>
              <a:ext cx="6006960" cy="30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-36360" y="4163760"/>
              <a:ext cx="6769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Dst index(above)</a:t>
              </a:r>
              <a:r>
                <a:rPr b="0" lang="zh-CN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と</a:t>
              </a:r>
              <a:r>
                <a:rPr b="0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TWINS/LAD 3</a:t>
              </a:r>
              <a:r>
                <a:rPr b="0" lang="zh-CN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〜</a:t>
              </a:r>
              <a:r>
                <a:rPr b="0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8R</a:t>
              </a:r>
              <a:r>
                <a:rPr b="0" lang="en-US" sz="8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E  number of hydrogen atoms</a:t>
              </a:r>
              <a:r>
                <a:rPr b="0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(below) [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Bailey and Gruntman</a:t>
              </a:r>
              <a:r>
                <a:rPr b="0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, 2013]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96720" y="5300640"/>
            <a:ext cx="201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when sto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occ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2484360" y="530064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⇒</a:t>
            </a: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6-17% increase in number of hydrogen ato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inside 3-8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4437000"/>
            <a:ext cx="56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temporal resolution: approx. 12 hours (one revolution is 12 hou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325440" y="6095880"/>
            <a:ext cx="8748720" cy="76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unable to time-resolve changes in number of hydrogen atom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in response to temporal changes of magnetic stor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138720" y="1216080"/>
            <a:ext cx="3834000" cy="2902680"/>
            <a:chOff x="6138720" y="1216080"/>
            <a:chExt cx="3834000" cy="2902680"/>
          </a:xfrm>
        </p:grpSpPr>
        <p:sp>
          <p:nvSpPr>
            <p:cNvPr id="132" name=""/>
            <p:cNvSpPr/>
            <p:nvPr/>
          </p:nvSpPr>
          <p:spPr>
            <a:xfrm>
              <a:off x="6515280" y="3659760"/>
              <a:ext cx="3457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LAD observation geometr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[Bailey and Gruntman, 2011]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6138720" y="1216080"/>
              <a:ext cx="2735280" cy="243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96720" y="693720"/>
            <a:ext cx="821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Observations until now mainly via earthbound satelli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/>
          <p:nvPr/>
        </p:nvSpPr>
        <p:spPr>
          <a:xfrm>
            <a:off x="254160" y="1197000"/>
            <a:ext cx="8210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⇒ </a:t>
            </a: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geocorona extends up to 20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小塚ゴシック Pro L"/>
                <a:ea typeface="小塚ゴシック Pro 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/>
          <p:nvPr/>
        </p:nvSpPr>
        <p:spPr>
          <a:xfrm>
            <a:off x="181080" y="2205000"/>
            <a:ext cx="90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examples at far distance from earth inclu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⇒ </a:t>
            </a: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only Mariner 5 [</a:t>
            </a:r>
            <a:r>
              <a:rPr b="0" i="1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Wallace et al.</a:t>
            </a: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,1970], Apollo 16 [</a:t>
            </a:r>
            <a:r>
              <a:rPr b="0" i="1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Carruthers et al.</a:t>
            </a: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, 1976], Nozomi [</a:t>
            </a:r>
            <a:r>
              <a:rPr b="0" i="1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Tsuchiya</a:t>
            </a: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, 200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/>
          <p:nvPr/>
        </p:nvSpPr>
        <p:spPr>
          <a:xfrm>
            <a:off x="3203640" y="3571920"/>
            <a:ext cx="5905440" cy="318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&lt;objectives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imaging of geocorona up to</a:t>
            </a:r>
            <a:r>
              <a:rPr b="1" lang="zh-CN" sz="22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〜</a:t>
            </a:r>
            <a:r>
              <a:rPr b="1" lang="en-US" sz="22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20R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小塚ゴシック Pro L"/>
                <a:ea typeface="小塚ゴシック Pro L"/>
              </a:rPr>
              <a:t>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⇒</a:t>
            </a:r>
            <a:r>
              <a:rPr b="1" lang="en-US" sz="22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hydrogen density at extreme altitud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higher temporal resolution than earth bound satellites (1 hour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⇒</a:t>
            </a:r>
            <a:r>
              <a:rPr b="1" lang="en-US" sz="22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new insight into the loss process of earth atmosphe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828720" y="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　</a:t>
            </a:r>
            <a:r>
              <a:rPr b="0" lang="en-US" sz="4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Imaging of geocoro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-36360" y="4346640"/>
            <a:ext cx="4105080" cy="2541240"/>
            <a:chOff x="-36360" y="4346640"/>
            <a:chExt cx="4105080" cy="2541240"/>
          </a:xfrm>
        </p:grpSpPr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 rot="5400000">
              <a:off x="406080" y="4025880"/>
              <a:ext cx="2248200" cy="28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-36360" y="6626520"/>
              <a:ext cx="4105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as seen by Apollo 16 [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Carruthers et al.</a:t>
              </a:r>
              <a:r>
                <a:rPr b="0" lang="en-US" sz="11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, 1976]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54160" y="1701720"/>
            <a:ext cx="90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⇒</a:t>
            </a: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difficult to obtain density distribution at extremely high altitu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5440" y="-888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geocorona imaging-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-106200" y="-98640"/>
            <a:ext cx="91440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(1) Extremely high altitude(&gt;8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小塚ゴシック Pro L"/>
                <a:ea typeface="小塚ゴシック Pro 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) geocorona(H Ly-α)distribution to be imag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latitude distribution of hydrogen atoms at high altitude in single image</a:t>
            </a:r>
            <a:r>
              <a:rPr b="0" lang="en-US" sz="1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(Mariner 5: ~16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小塚ゴシック Pro L"/>
                <a:ea typeface="小塚ゴシック Pro 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, Apollo 16: ~10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小塚ゴシック Pro L"/>
                <a:ea typeface="小塚ゴシック Pro 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, Nozomi: ~24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小塚ゴシック Pro L"/>
                <a:ea typeface="小塚ゴシック Pro 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Timing of observation: 7-14 days after laun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小塚ゴシック Pro L"/>
                <a:ea typeface="小塚ゴシック Pro L"/>
              </a:rPr>
              <a:t>①</a:t>
            </a:r>
            <a:r>
              <a:rPr b="0" lang="en-US" sz="2400" spc="-1" strike="noStrike">
                <a:solidFill>
                  <a:srgbClr val="ff0000"/>
                </a:solidFill>
                <a:latin typeface="小塚ゴシック Pro L"/>
                <a:ea typeface="小塚ゴシック Pro L"/>
              </a:rPr>
              <a:t>quantising hydrogen atoms loss process by charge exchange reaction and photoioni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 rot="21570600">
            <a:off x="6515280" y="2781360"/>
            <a:ext cx="2581200" cy="22017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524640" y="5343480"/>
            <a:ext cx="26128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Apollo 16 imaging of geocorona distribution [Carruthers et al., 1976]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2852640"/>
            <a:ext cx="642924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(2) Temporal changes in high altitude geocorona and magnetic st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Density increase (</a:t>
            </a: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3-8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小塚ゴシック Pro L"/>
                <a:ea typeface="小塚ゴシック Pro L"/>
              </a:rPr>
              <a:t>E) 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小塚ゴシック Pro L"/>
                <a:ea typeface="小塚ゴシック Pro 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in response to magnetic storm, reason unkown </a:t>
            </a:r>
            <a:r>
              <a:rPr b="0" lang="en-US" sz="1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[Bailey and Gruntman, 2013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Timing of observation: 10days to 3 months after laun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小塚ゴシック Pro L"/>
                <a:ea typeface="小塚ゴシック Pro L"/>
              </a:rPr>
              <a:t>② </a:t>
            </a:r>
            <a:r>
              <a:rPr b="0" lang="en-US" sz="2400" spc="-1" strike="noStrike">
                <a:solidFill>
                  <a:srgbClr val="ff0000"/>
                </a:solidFill>
                <a:latin typeface="小塚ゴシック Pro L"/>
                <a:ea typeface="小塚ゴシック Pro L"/>
              </a:rPr>
              <a:t>Quantising hydrogen atom supply process into exosp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小塚ゴシック Pro L"/>
                <a:ea typeface="小塚ゴシック Pro L"/>
              </a:rPr>
              <a:t>①</a:t>
            </a:r>
            <a:r>
              <a:rPr b="0" lang="en-US" sz="2800" spc="-1" strike="noStrike">
                <a:solidFill>
                  <a:srgbClr val="ff0000"/>
                </a:solidFill>
                <a:latin typeface="小塚ゴシック Pro L"/>
                <a:ea typeface="小塚ゴシック Pro L"/>
              </a:rPr>
              <a:t>and② leading to quantitative understanding of atmospheric loss proess</a:t>
            </a:r>
            <a:r>
              <a:rPr b="0" lang="zh-CN" sz="2800" spc="-1" strike="noStrike">
                <a:solidFill>
                  <a:srgbClr val="ff0000"/>
                </a:solidFill>
                <a:latin typeface="小塚ゴシック Pro L"/>
                <a:ea typeface="小塚ゴシック Pro L"/>
              </a:rPr>
              <a:t>より大気散逸過程の定量的理解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6083280" y="4076640"/>
            <a:ext cx="2952720" cy="2915280"/>
            <a:chOff x="6083280" y="4076640"/>
            <a:chExt cx="2952720" cy="291528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6083280" y="4076640"/>
              <a:ext cx="2952720" cy="245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6211800" y="6532920"/>
              <a:ext cx="2722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MCP+RAE</a:t>
              </a:r>
              <a:r>
                <a:rPr b="0" lang="zh-CN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模式図 </a:t>
              </a:r>
              <a:r>
                <a:rPr b="0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[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Yoshioka et al.</a:t>
              </a:r>
              <a:r>
                <a:rPr b="0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, 2010]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11280" y="34920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LAICA</a:t>
            </a:r>
            <a:r>
              <a:rPr b="0" lang="zh-CN" sz="32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(Geocoronal Hydroge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Lyman Alpha Imaging CAme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/>
          <p:nvPr/>
        </p:nvSpPr>
        <p:spPr>
          <a:xfrm>
            <a:off x="-466560" y="1413000"/>
            <a:ext cx="5473440" cy="31701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788000" y="1701720"/>
            <a:ext cx="4248000" cy="2354760"/>
            <a:chOff x="4788000" y="1701720"/>
            <a:chExt cx="4248000" cy="2354760"/>
          </a:xfrm>
        </p:grpSpPr>
        <p:grpSp>
          <p:nvGrpSpPr>
            <p:cNvPr id="154" name=""/>
            <p:cNvGrpSpPr/>
            <p:nvPr/>
          </p:nvGrpSpPr>
          <p:grpSpPr>
            <a:xfrm>
              <a:off x="4788000" y="1701720"/>
              <a:ext cx="4248000" cy="2354760"/>
              <a:chOff x="4788000" y="1701720"/>
              <a:chExt cx="4248000" cy="235476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4788000" y="1701720"/>
                <a:ext cx="4248000" cy="2354760"/>
                <a:chOff x="4788000" y="1701720"/>
                <a:chExt cx="4248000" cy="2354760"/>
              </a:xfrm>
            </p:grpSpPr>
            <p:pic>
              <p:nvPicPr>
                <p:cNvPr id="15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788000" y="1701720"/>
                  <a:ext cx="4248000" cy="235476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57" name=""/>
                <p:cNvCxnSpPr/>
                <p:nvPr/>
              </p:nvCxnSpPr>
              <p:spPr>
                <a:xfrm flipV="1">
                  <a:off x="5076360" y="2328840"/>
                  <a:ext cx="1477080" cy="1256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headEnd len="med" type="arrow" w="med"/>
                  <a:tailEnd len="med" type="arrow" w="med"/>
                </a:ln>
              </p:spPr>
            </p:cxnSp>
          </p:grpSp>
          <p:sp>
            <p:nvSpPr>
              <p:cNvPr id="158" name=""/>
              <p:cNvSpPr/>
              <p:nvPr/>
            </p:nvSpPr>
            <p:spPr>
              <a:xfrm>
                <a:off x="5364000" y="2180520"/>
                <a:ext cx="7207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小塚ゴシック Pro L"/>
                    <a:ea typeface="小塚ゴシック Pro L"/>
                  </a:rPr>
                  <a:t>120mm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7962840" y="3750840"/>
              <a:ext cx="107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LAICA</a:t>
              </a:r>
              <a:r>
                <a:rPr b="0" lang="zh-CN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形状図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395280" y="5400720"/>
            <a:ext cx="5329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光学系：カセグレン望遠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　主鏡・副鏡ともに球面</a:t>
            </a: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(Al+Mg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小塚ゴシック Pro L"/>
                <a:ea typeface="小塚ゴシック Pro 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719280" y="616572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フードなしで迷光対策が必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4479840"/>
            <a:ext cx="547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detector</a:t>
            </a:r>
            <a:r>
              <a:rPr b="0" lang="zh-CN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same as that on Bepicolombo/MPO's PHEBUS/FUV</a:t>
            </a:r>
            <a:r>
              <a:rPr b="0" lang="zh-CN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と同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9T16:30:29Z</dcterms:created>
  <dc:creator>Masaki_S</dc:creator>
  <dc:description/>
  <dc:language>en-US</dc:language>
  <cp:lastModifiedBy>User</cp:lastModifiedBy>
  <dcterms:modified xsi:type="dcterms:W3CDTF">2014-08-06T07:57:48Z</dcterms:modified>
  <cp:revision>221</cp:revision>
  <dc:subject/>
  <dc:title>超小型深宇宙探査機搭載用 ジオコロナイメージャの開発</dc:title>
</cp:coreProperties>
</file>